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F37-F138-46D6-9DF9-5B79CEE5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E59-CEA8-4092-A18F-86186BD7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539-5786-4DD6-97D6-3556EB8C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63E-8677-4A54-914E-F489B7CF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70E-3B43-4378-9C88-2E306206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6F02-C5D8-4712-B4BB-50D4E82A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D290-2A04-452E-909D-FFD00331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344-17FC-4DA8-A950-795499D4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659E-A07A-4C03-9990-2A1771AD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ABD-9360-42AC-967C-C79CCADF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C85-8A85-43B1-875F-AA254C57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5EB-36DD-419C-B6C4-B40E6951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0FF8-F9BE-47EF-97E9-D90B2C196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esse Wy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d “gold” comes from the Proto-Indo-Eruopean ghel/ghol which means “yellow”, “green” or possibly “brigh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mmonly used in wiring for sound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me people it is also called “Butter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3809880"/>
            <a:ext cx="2539800" cy="267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62320" y="1828800"/>
            <a:ext cx="518148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Symbol = 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Number = 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Atomic Mass = 196.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Periodic Group =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’s Period Number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3962520" cy="2805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4191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D Model of 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02920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Point = 1337.33 K, 1064.18 °C 1947.52 °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ing Point = 3129 K, 2856 °C, 517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= 19.3 g/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bel 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ly In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good conductor of heat and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State Ranges -1 to +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is often crafted into different jewelry which is the most common use of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mmon use of gold is in the making of trophies and medals most commonly found in the Olympic med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one point in time gold was the most common curr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Incas gold was often referred to as “The Sun’s tea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was first discovered in it’s most common form, nug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was and still is the most sought after mineral for most hum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’s Isot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only has one stable isotope which is 197 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also has 36 radioisotopes which are 195 A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9:01:41Z</dcterms:created>
  <dc:creator>Jonathan Wyns</dc:creator>
  <dc:description/>
  <dc:language>en-US</dc:language>
  <cp:lastModifiedBy>Jonathan Wyns</cp:lastModifiedBy>
  <dcterms:modified xsi:type="dcterms:W3CDTF">2013-01-30T12:38:43Z</dcterms:modified>
  <cp:revision>2</cp:revision>
  <dc:subject/>
  <dc:title>Gold</dc:title>
</cp:coreProperties>
</file>