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1D6-8F27-4FE4-888D-3A86ABC0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5FD-6AD9-4464-A609-FF96A7B8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CF9-9F3B-4107-84D1-BFFD5202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692-BDBD-44A2-B9E5-6983CCC7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A13-418B-4060-94FC-DDD7436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901-ACAD-4B78-A0A2-17BAAD74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233-69C6-4AD0-B7DE-E8E75894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056-6237-4294-9775-9F683C25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925-7E58-4A5E-8A99-112955B6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F68-5A31-4A1B-A272-5A2CB6DF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19A-BAED-42CB-8C62-7C428F6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6D1-429B-465E-ADA0-9AA835D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627E-4643-4132-BBE5-070DC782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sse W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gold” comes from the Proto-Indo-Eruopean ghel/ghol which means “yellow”, “green” or possibly “brigh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used in wiring for sound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s also called “Bu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253980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1828800"/>
            <a:ext cx="518148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Symbol =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Number =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Mass = 196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ic Group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 Numb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odel of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 = 1337.33 K, 1064.18 °C 1947.52 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 = 3129 K, 2856 °C, 51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= 19.3 g/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el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ly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conductor of heat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State Ranges -1 to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is often crafted into different jewelry which is the most common us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mon use of gold is in the making of trophies and medals most commonly found in the Olympic med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one point in time gold was the most common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Incas gold was often referred to as “The Sun’s te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first discovered in it’s most common form, nug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and still is the most sought after mineral for most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Isot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only has one stable isotope which is 197 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lso has 36 radioisotopes which are 195 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01:41Z</dcterms:created>
  <dc:creator>Jonathan Wyns</dc:creator>
  <dc:description/>
  <dc:language>en-US</dc:language>
  <cp:lastModifiedBy>Jonathan Wyns</cp:lastModifiedBy>
  <dcterms:modified xsi:type="dcterms:W3CDTF">2013-01-30T12:38:43Z</dcterms:modified>
  <cp:revision>2</cp:revision>
  <dc:subject/>
  <dc:title>Gold</dc:title>
</cp:coreProperties>
</file>