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370-E270-4664-9B9D-FB807CB8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ACE4-E79F-413B-B5F7-121EE721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87D9-F534-400F-90E2-3BC7A19E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628-6F43-43E9-811E-B5D57E5D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25E-0373-4370-9FA4-5EA6BD73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F8D-482B-4925-91E3-A0DEBC09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EF0-5A4C-4FB7-8B46-96265B74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60A-E2E4-42D2-90FE-4001F38F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8BD-30C7-49D1-BB75-DE7169D0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3F52-189D-4A4B-A509-EDBE57A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F934-0EDC-4B27-8FFE-87B54317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087-02CC-449B-BE48-A6F41550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D56F-9FF4-41A5-9BCA-0333148BC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esse W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gold” comes from the Proto-Indo-Eruopean ghel/ghol which means “yellow”, “green” or possibly “brigh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ly used in wiring for sound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people it is also called “Butt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2539800" cy="267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1828800"/>
            <a:ext cx="518148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Symbol = 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Number =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Mass = 196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ic Group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 Numb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Model of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 = 1337.33 K, 1064.18 °C 1947.52 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 = 3129 K, 2856 °C, 517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= 19.3 g/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el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ly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good conductor of heat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State Ranges -1 to 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is often crafted into different jewelry which is the most common use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mmon use of gold is in the making of trophies and medals most commonly found in the Olympic med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one point in time gold was the most common curr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Incas gold was often referred to as “The Sun’s te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first discovered in it’s most common form, nug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and still is the most sought after mineral for most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Isot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only has one stable isotope which is 197 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lso has 36 radioisotopes which are 195 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9:01:41Z</dcterms:created>
  <dc:creator>Jonathan Wyns</dc:creator>
  <dc:description/>
  <dc:language>en-US</dc:language>
  <cp:lastModifiedBy>Jonathan Wyns</cp:lastModifiedBy>
  <dcterms:modified xsi:type="dcterms:W3CDTF">2013-01-30T12:38:43Z</dcterms:modified>
  <cp:revision>2</cp:revision>
  <dc:subject/>
  <dc:title>Gold</dc:title>
</cp:coreProperties>
</file>