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289C-3497-4D2B-AB1C-BBB1A8500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A3CF-9228-43E9-87DB-08E698CE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8656-B7F9-4FFA-A91D-8B5A6D00D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8142-8E46-4F3F-A3D7-756CE2BC4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413A-F984-417D-B7E2-43955C18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8ED0-7A9A-4E6C-9AB9-BF3C1185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9411-C6F0-4542-83FE-11C4B5D1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8639-D76E-4576-A1CB-D653194C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A54B-B10F-46A7-8595-CB0526B3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8C80-DBE9-4404-9B63-7743C5A5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B668-D37E-4CEB-B28F-E02940E9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2119-CD29-42C4-A0B0-5E05635D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9080-34E8-4FD8-B3BB-5F812495E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 Pro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Jesse Wy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Interesting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d “gold” comes from the Proto-Indo-Eruopean ghel/ghol which means “yellow”, “green” or possibly “bright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ommonly used in wiring for sound equip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ome people it is also called “Butter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76720" y="3809880"/>
            <a:ext cx="2539800" cy="2679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362320" y="1828800"/>
            <a:ext cx="518148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’s Atomic Symbol = 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’s Atomic Number = 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’s Atomic Mass = 196.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’s Periodic Group =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’s Period Number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3962520" cy="2805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800600" y="2514600"/>
            <a:ext cx="419112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D Model of G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02920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ting Point = 1337.33 K, 1064.18 °C 1947.52 °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ing Point = 3129 K, 2856 °C, 517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 = 19.3 g/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bel Me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ly In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good conductor of heat and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State Ranges -1 to +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’s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 is often crafted into different jewelry which is the most common use of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common use of gold is in the making of trophies and medals most commonly found in the Olympic med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one point in time gold was the most common curr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’s Histo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Incas gold was often referred to as “The Sun’s tea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 was first discovered in it’s most common form, nugg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 was and still is the most sought after mineral for most hum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’s Isot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 only has one stable isotope which is 197 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 also has 36 radioisotopes which are 195 A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9:01:41Z</dcterms:created>
  <dc:creator>Jonathan Wyns</dc:creator>
  <dc:description/>
  <dc:language>en-US</dc:language>
  <cp:lastModifiedBy>Jonathan Wyns</cp:lastModifiedBy>
  <dcterms:modified xsi:type="dcterms:W3CDTF">2013-01-30T12:38:43Z</dcterms:modified>
  <cp:revision>2</cp:revision>
  <dc:subject/>
  <dc:title>Gold</dc:title>
</cp:coreProperties>
</file>