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261A7-E1F1-4404-A058-3619F9C0B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048C0-5613-4F9C-BF7E-481ACC454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82672-AE24-4893-9EDD-3B26C098B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8C351-5487-4BA1-8398-C45F2302F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78EC0-F480-47A4-9DA9-20C445913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0E9A4-EC65-4B21-B89C-CB04FE2D2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D8696-EB4C-46EA-887D-6612EF343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100C9-FCFD-4EE7-A229-C1F0C9714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B7A98-15FF-4654-9950-F85F91A9A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FAF4B-507C-4EF5-85F0-E26466C47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35733-CD71-4064-93E8-02F537127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34E89-4D32-4BFA-AF43-39E9420476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7F363-56B7-4CA2-8A24-244BDC83CD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5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enon:</a:t>
            </a:r>
            <a:r>
              <a:rPr b="0" lang="en-US" sz="7200" spc="-1" strike="noStrike">
                <a:solidFill>
                  <a:srgbClr val="000000"/>
                </a:solidFill>
                <a:latin typeface="Informal Roman"/>
              </a:rPr>
              <a:t>        </a:t>
            </a:r>
            <a:r>
              <a:rPr b="0" lang="en-US" sz="4400" spc="-1" strike="noStrike">
                <a:solidFill>
                  <a:srgbClr val="000000"/>
                </a:solidFill>
                <a:latin typeface="Informal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66ff"/>
                </a:solidFill>
                <a:latin typeface="High Tower Text"/>
              </a:rPr>
              <a:t>As written by Catharine Whiddon</a:t>
            </a:r>
            <a:endParaRPr b="0" lang="en-US" sz="3200" spc="-1" strike="noStrike">
              <a:solidFill>
                <a:srgbClr val="000000"/>
              </a:solidFill>
              <a:latin typeface="Times New Roman"/>
            </a:endParaRPr>
          </a:p>
        </p:txBody>
      </p:sp>
      <p:pic>
        <p:nvPicPr>
          <p:cNvPr id="43" name="s9s" descr=""/>
          <p:cNvPicPr/>
          <p:nvPr/>
        </p:nvPicPr>
        <p:blipFill>
          <a:blip r:embed="rId1"/>
          <a:stretch/>
        </p:blipFill>
        <p:spPr>
          <a:xfrm>
            <a:off x="5867280" y="380880"/>
            <a:ext cx="2773440" cy="2773440"/>
          </a:xfrm>
          <a:prstGeom prst="rect">
            <a:avLst/>
          </a:prstGeom>
          <a:ln w="0">
            <a:noFill/>
          </a:ln>
        </p:spPr>
      </p:pic>
      <p:sp>
        <p:nvSpPr>
          <p:cNvPr id="44" name=""/>
          <p:cNvSpPr/>
          <p:nvPr/>
        </p:nvSpPr>
        <p:spPr>
          <a:xfrm>
            <a:off x="588960" y="152280"/>
            <a:ext cx="823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9966ff"/>
                </a:solidFill>
                <a:latin typeface="High Tower Text"/>
              </a:rPr>
              <a:t>X</a:t>
            </a:r>
            <a:endParaRPr b="0" lang="en-US" sz="9600" spc="-1" strike="noStrike">
              <a:solidFill>
                <a:srgbClr val="000000"/>
              </a:solidFill>
              <a:latin typeface="Times New Roman"/>
            </a:endParaRPr>
          </a:p>
        </p:txBody>
      </p:sp>
      <p:sp>
        <p:nvSpPr>
          <p:cNvPr id="45" name=""/>
          <p:cNvSpPr/>
          <p:nvPr/>
        </p:nvSpPr>
        <p:spPr>
          <a:xfrm>
            <a:off x="900360" y="1709640"/>
            <a:ext cx="5052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66ff"/>
                </a:solidFill>
                <a:latin typeface="High Tower Text"/>
              </a:rPr>
              <a:t>A presentation on the mos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66ff"/>
                </a:solidFill>
                <a:latin typeface="High Tower Text"/>
              </a:rPr>
              <a:t>noble of ga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Fun Facts</a:t>
            </a:r>
            <a:endParaRPr b="0" lang="en-US" sz="7200" spc="-1" strike="noStrike">
              <a:solidFill>
                <a:srgbClr val="000000"/>
              </a:solidFill>
              <a:latin typeface="Times New Roman"/>
            </a:endParaRPr>
          </a:p>
        </p:txBody>
      </p:sp>
      <p:sp>
        <p:nvSpPr>
          <p:cNvPr id="71"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is one of few completely colorless and odorless gases, though varieties can be created with colo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It makes up only 0.087 parts per million of the atmosphere and is four times heavier than Oxyge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When excited by electricity, it releases a blue-white glo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Thanks for reading!</a:t>
            </a:r>
            <a:endParaRPr b="0" lang="en-US" sz="7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ff"/>
              </a:solidFill>
              <a:latin typeface="Informal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Periodicals</a:t>
            </a:r>
            <a:endParaRPr b="0" lang="en-US" sz="72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which can be shortened to its symbol Xe, is one of the noble, or inert, gases. Xenon takes the atomic number 54 and has an atomic mass of 131.293. It is in group 18 and period 5 of the periodic t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The Face of Xenon</a:t>
            </a:r>
            <a:endParaRPr b="0" lang="en-US" sz="7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being a gas, isn’t exactly something that’s very photogenic. It does, however, react to black light, or ultraviolet light.</a:t>
            </a:r>
            <a:endParaRPr b="0" lang="en-US" sz="3200" spc="-1" strike="noStrike">
              <a:solidFill>
                <a:srgbClr val="000000"/>
              </a:solidFill>
              <a:latin typeface="Times New Roman"/>
            </a:endParaRPr>
          </a:p>
        </p:txBody>
      </p:sp>
      <p:pic>
        <p:nvPicPr>
          <p:cNvPr id="50" name="xenon" descr=""/>
          <p:cNvPicPr/>
          <p:nvPr/>
        </p:nvPicPr>
        <p:blipFill>
          <a:blip r:embed="rId1"/>
          <a:stretch/>
        </p:blipFill>
        <p:spPr>
          <a:xfrm>
            <a:off x="5545080" y="3259080"/>
            <a:ext cx="3598920" cy="3598920"/>
          </a:xfrm>
          <a:prstGeom prst="rect">
            <a:avLst/>
          </a:prstGeom>
          <a:ln w="0">
            <a:noFill/>
          </a:ln>
        </p:spPr>
      </p:pic>
      <p:sp>
        <p:nvSpPr>
          <p:cNvPr id="51" name=""/>
          <p:cNvSpPr/>
          <p:nvPr/>
        </p:nvSpPr>
        <p:spPr>
          <a:xfrm>
            <a:off x="4735080" y="4495680"/>
            <a:ext cx="2478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Informal Roman"/>
              </a:rPr>
              <a:t>A vial of Xenon u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Informal Roman"/>
              </a:rPr>
              <a:t>black, or ultraviol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Informal Roman"/>
              </a:rPr>
              <a:t>light.</a:t>
            </a:r>
            <a:endParaRPr b="0" lang="en-US" sz="1800" spc="-1" strike="noStrike">
              <a:solidFill>
                <a:srgbClr val="000000"/>
              </a:solidFill>
              <a:latin typeface="Times New Roman"/>
            </a:endParaRPr>
          </a:p>
        </p:txBody>
      </p:sp>
      <p:sp>
        <p:nvSpPr>
          <p:cNvPr id="52" name=""/>
          <p:cNvSpPr/>
          <p:nvPr/>
        </p:nvSpPr>
        <p:spPr>
          <a:xfrm flipV="1">
            <a:off x="6172200" y="3885840"/>
            <a:ext cx="0" cy="609480"/>
          </a:xfrm>
          <a:prstGeom prst="line">
            <a:avLst/>
          </a:prstGeom>
          <a:ln w="9360">
            <a:solidFill>
              <a:srgbClr val="99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6168960" y="3884760"/>
            <a:ext cx="1600200" cy="0"/>
          </a:xfrm>
          <a:prstGeom prst="line">
            <a:avLst/>
          </a:prstGeom>
          <a:ln w="93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Atomic Xenon</a:t>
            </a:r>
            <a:endParaRPr b="0" lang="en-US" sz="7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56" name="=xenon" descr=""/>
          <p:cNvPicPr/>
          <p:nvPr/>
        </p:nvPicPr>
        <p:blipFill>
          <a:blip r:embed="rId1"/>
          <a:stretch/>
        </p:blipFill>
        <p:spPr>
          <a:xfrm>
            <a:off x="4414680" y="1600200"/>
            <a:ext cx="4940280" cy="5257800"/>
          </a:xfrm>
          <a:prstGeom prst="rect">
            <a:avLst/>
          </a:prstGeom>
          <a:ln w="0">
            <a:noFill/>
          </a:ln>
        </p:spPr>
      </p:pic>
      <p:sp>
        <p:nvSpPr>
          <p:cNvPr id="57" name=""/>
          <p:cNvSpPr/>
          <p:nvPr/>
        </p:nvSpPr>
        <p:spPr>
          <a:xfrm>
            <a:off x="2043000" y="3429000"/>
            <a:ext cx="2108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Informal Roman"/>
              </a:rPr>
              <a:t>A 2D picture of 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Informal Roman"/>
              </a:rPr>
              <a:t>atom of Xenon</a:t>
            </a:r>
            <a:endParaRPr b="0" lang="en-US" sz="1800" spc="-1" strike="noStrike">
              <a:solidFill>
                <a:srgbClr val="000000"/>
              </a:solidFill>
              <a:latin typeface="Times New Roman"/>
            </a:endParaRPr>
          </a:p>
        </p:txBody>
      </p:sp>
      <p:sp>
        <p:nvSpPr>
          <p:cNvPr id="58" name=""/>
          <p:cNvSpPr/>
          <p:nvPr/>
        </p:nvSpPr>
        <p:spPr>
          <a:xfrm>
            <a:off x="2895480" y="4038480"/>
            <a:ext cx="0" cy="990720"/>
          </a:xfrm>
          <a:prstGeom prst="line">
            <a:avLst/>
          </a:prstGeom>
          <a:ln w="9360">
            <a:solidFill>
              <a:srgbClr val="99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895480" y="5029200"/>
            <a:ext cx="1676520" cy="0"/>
          </a:xfrm>
          <a:prstGeom prst="line">
            <a:avLst/>
          </a:prstGeom>
          <a:ln w="93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Physical Attributes</a:t>
            </a:r>
            <a:endParaRPr b="0" lang="en-US" sz="7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is a normally colorless gas. It emits a blue glow when exposed to an electric discharge. Xenon can be produced to be colored, or even have a metallic appearance! Xenon is one of the heaviest gases. It melts at 161.3 K and boils at 166.1 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Chemical Attributes</a:t>
            </a:r>
            <a:endParaRPr b="0" lang="en-US" sz="7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being a Noble or inert gas, does not react with many other elements. Eventually, chemists discovered various compounds that can be made with Xenon, though it still does not react with many other element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Xenon’s Usefulness</a:t>
            </a:r>
            <a:endParaRPr b="0" lang="en-US" sz="72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doesn’t have too many uses. It is mainly used in special lamps because it glows when an electrical charge is passed through it. It can also be found in some ultraviolet lights, such as the ones used to sterilize equipment in labs and hospita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Historical Facts</a:t>
            </a:r>
            <a:endParaRPr b="0" lang="en-US" sz="7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s existence was first discovered by Sir William Ramsay and Morris Travers. They discovered it in 1898 in an experiment involving cooling air to a liquid state, and identifying each gas boiling off as they heated the air to a gaseous state. There was only very little Xenon in the air they used, as Xenon is only there to the extent of 0.087 ppm in the atmosphe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933ff"/>
                </a:solidFill>
                <a:latin typeface="Informal Roman"/>
              </a:rPr>
              <a:t>Isotopes and Compounds</a:t>
            </a:r>
            <a:endParaRPr b="0" lang="en-US" sz="6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was thought to be a completely inactive gas, and scientists still haven’t discovered too many Xenon compounds. Some of the ones they have discovered include Xenon Trioxide (XeO </a:t>
            </a:r>
            <a:r>
              <a:rPr b="0" lang="en-US" sz="3200" spc="-1" strike="noStrike" baseline="-30000">
                <a:solidFill>
                  <a:srgbClr val="9933ff"/>
                </a:solidFill>
                <a:latin typeface="Informal Roman"/>
              </a:rPr>
              <a:t>3 </a:t>
            </a:r>
            <a:r>
              <a:rPr b="0" lang="en-US" sz="3200" spc="-1" strike="noStrike">
                <a:solidFill>
                  <a:srgbClr val="9933ff"/>
                </a:solidFill>
                <a:latin typeface="Informal Roman"/>
              </a:rPr>
              <a:t>) and Xenon Oxytetrafluoride (XeOF </a:t>
            </a:r>
            <a:r>
              <a:rPr b="0" lang="en-US" sz="3200" spc="-1" strike="noStrike" baseline="-30000">
                <a:solidFill>
                  <a:srgbClr val="9933ff"/>
                </a:solidFill>
                <a:latin typeface="Informal Roman"/>
              </a:rPr>
              <a:t>4 </a:t>
            </a:r>
            <a:r>
              <a:rPr b="0" lang="en-US" sz="3200" spc="-1" strike="noStrike">
                <a:solidFill>
                  <a:srgbClr val="9933ff"/>
                </a:solidFill>
                <a:latin typeface="Informal Roman"/>
              </a:rPr>
              <a:t>). There are also nine naturally occurring isotopes of Xenon.</a:t>
            </a:r>
            <a:endParaRPr b="0" lang="en-US" sz="3200" spc="-1" strike="noStrike">
              <a:solidFill>
                <a:srgbClr val="000000"/>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4T13:57:40Z</dcterms:created>
  <dc:creator>201076</dc:creator>
  <dc:description/>
  <dc:language>en-US</dc:language>
  <cp:lastModifiedBy>201076</cp:lastModifiedBy>
  <dcterms:modified xsi:type="dcterms:W3CDTF">2013-01-31T14:16:41Z</dcterms:modified>
  <cp:revision>6</cp:revision>
  <dc:subject/>
  <dc:title>Dysprosium              </dc:title>
</cp:coreProperties>
</file>