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0412-55DB-4FF7-BD89-04C16C04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EB94-8F3C-4706-9E65-F94741FC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4F6A-C91E-43E4-AA7F-9C78FF3D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0DFD-A527-489E-B585-200D1D8A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F18C-7ED8-416F-8758-E1BB6C84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7F07-3F6E-4392-95CF-FD32E4FA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7FD1-17A2-4B50-A4BC-AD5615BB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98FE-B4A7-489E-AA4C-EEBE3B2C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EBD9-664B-4CB3-9608-48CFD745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5CBF-ECCE-4966-8794-282185C4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315E-330A-4F9A-AA54-472D7351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F85E-ED94-4244-AD45-45B42504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8C00-8D28-46F8-8241-058497F0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29D3-AA5F-4A33-BBFB-5A956E2B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43EC-EFC7-4CEB-9A73-4A5767BF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F1DF-6ED4-47B8-B3E7-4128E1A2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48C2-C443-4D15-8461-1E6C38CA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2E48-3AA0-4BD0-8DDE-CF2E8180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753D-2807-4EA8-A292-E4E5677A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4568-CFA6-4832-8E21-BBD9FD16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180A-C04F-4000-84FD-5E745894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A896-4913-4042-9AA5-C7FB192F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D94D-9358-4865-8187-E34B938F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0B05-E39D-4B86-820E-263D9C90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96A8-76E0-4252-A3E2-6CA953FBC50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0202-CFAA-490D-931A-E45EFA9CC0C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itanium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Element With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: Landon Clar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teresting facts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3733920"/>
            <a:ext cx="5867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tanium is 42% lighter than steel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tanium is the only metal that burns in nitroge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27432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itanium</a:t>
            </a:r>
            <a:br>
              <a:rPr sz="4400"/>
            </a:b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Atomic Symbol: Ti</a:t>
            </a:r>
            <a:br>
              <a:rPr sz="2000"/>
            </a:b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Atomic number: 22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4191120"/>
            <a:ext cx="5257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tomic Mass: 47. 86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roup Number: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iod Number: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anium-crystal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2149200" cy="2149560"/>
          </a:xfrm>
          <a:prstGeom prst="rect">
            <a:avLst/>
          </a:prstGeom>
          <a:ln w="0">
            <a:noFill/>
          </a:ln>
        </p:spPr>
      </p:pic>
      <p:pic>
        <p:nvPicPr>
          <p:cNvPr id="97" name="titanium-ore" descr=""/>
          <p:cNvPicPr/>
          <p:nvPr/>
        </p:nvPicPr>
        <p:blipFill>
          <a:blip r:embed="rId2"/>
          <a:stretch/>
        </p:blipFill>
        <p:spPr>
          <a:xfrm>
            <a:off x="2895480" y="3733920"/>
            <a:ext cx="2011320" cy="1508040"/>
          </a:xfrm>
          <a:prstGeom prst="rect">
            <a:avLst/>
          </a:prstGeom>
          <a:ln w="0">
            <a:noFill/>
          </a:ln>
        </p:spPr>
      </p:pic>
      <p:pic>
        <p:nvPicPr>
          <p:cNvPr id="98" name="TitaniumMetal_jpg" descr=""/>
          <p:cNvPicPr/>
          <p:nvPr/>
        </p:nvPicPr>
        <p:blipFill>
          <a:blip r:embed="rId3"/>
          <a:stretch/>
        </p:blipFill>
        <p:spPr>
          <a:xfrm>
            <a:off x="4800600" y="2743200"/>
            <a:ext cx="297180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b0022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3165480" cy="3143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410080" y="342900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2 Proton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6 Neutr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1143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hysical Properti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2819520"/>
            <a:ext cx="4800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iling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lting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quid Ran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609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hemical properti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895480"/>
            <a:ext cx="5105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y are very  reactive metals –they all fizz and dissolve in plain wate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3880" y="2819520"/>
            <a:ext cx="54104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tanium is used in the aerospace industry  to make light weight air frames and engin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also use them as a component for joint replacemen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76212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e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istory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04812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tanium was discovered by William Gregor in England in 1791. He was interested in minerals and reconized the element now known as titaniu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ounds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2438280"/>
            <a:ext cx="5029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richloride or ticl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tanium tetrachlori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6:27:58Z</dcterms:created>
  <dc:creator>200756</dc:creator>
  <dc:description/>
  <dc:language>en-US</dc:language>
  <cp:lastModifiedBy>200756</cp:lastModifiedBy>
  <dcterms:modified xsi:type="dcterms:W3CDTF">2013-02-01T18:21:33Z</dcterms:modified>
  <cp:revision>1</cp:revision>
  <dc:subject/>
  <dc:title>Titanium </dc:title>
</cp:coreProperties>
</file>