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3AF-0779-434A-A250-36D709D4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BCC-509B-46AD-BB48-A7F3753A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A4A-99C3-42BB-BAA8-A06CCB93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5CE-1044-49D5-BCD5-DBAE5641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D001-477E-40A3-A9A5-96B5306C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46A2-121E-40A6-94CE-41BB69C9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1F00-8BB3-4F66-A994-8AE09187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F66E-735F-40BE-94D0-6B69B723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A6AB-F76B-43BB-8DCB-C7D5E348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6147-CB5A-4EDE-A4C3-8E764A4B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8355-C740-450B-B314-9250FA67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02D-658A-42F2-A574-5249463E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E8D5-97C3-427C-93A8-20066F57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D05A-0937-4D89-9599-B9123764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BA2F-813C-4329-847B-5B91D0A2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8DD4-338E-419B-BF31-6DD1D93D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8870-A464-4241-9DB0-D849B167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A45-8A6D-4CD5-9FC5-43999B6D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575-C13A-4FF5-AE63-D58D572C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BFF-20F8-495D-B35B-076FD269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B64-B4F5-436B-8049-3740C519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EDF-FFA7-49D1-995D-C88A161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258-252B-4281-8269-DD9E999C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4A6-E6D3-4F89-9F0D-FC4D8D14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1026-3790-4F4D-8A1F-D28A2099AB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8A28-920B-4276-83FD-0E60F38033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tanium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lement With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: Landon Cla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resting fact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733920"/>
            <a:ext cx="586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is 42% lighter than stee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is the only metal that burns in nitrog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2743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tanium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tomic Symbol: Ti</a:t>
            </a:r>
            <a:br>
              <a:rPr sz="20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tomic number: 22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4191120"/>
            <a:ext cx="525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tomic Mass: 47. 86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roup Number: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od Number: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anium-crystal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2149200" cy="2149560"/>
          </a:xfrm>
          <a:prstGeom prst="rect">
            <a:avLst/>
          </a:prstGeom>
          <a:ln w="0">
            <a:noFill/>
          </a:ln>
        </p:spPr>
      </p:pic>
      <p:pic>
        <p:nvPicPr>
          <p:cNvPr id="97" name="titanium-ore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98" name="TitaniumMetal_jpg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29718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0022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3165480" cy="314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10080" y="34290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2 Proto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6 Neutr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114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hysical Propert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81952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iling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lting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quid Ran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609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hemical proper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895480"/>
            <a:ext cx="5105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y are very  reactive metals –they all fizz and dissolve in plain wat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2819520"/>
            <a:ext cx="5410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is used in the aerospace industry  to make light weight air frames and engin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lso use them as a component for joint replace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7621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story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0481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was discovered by William Gregor in England in 1791. He was interested in minerals and reconized the element now known as titaniu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ound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43828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ichloride or ticl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tetrachlor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7:58Z</dcterms:created>
  <dc:creator>200756</dc:creator>
  <dc:description/>
  <dc:language>en-US</dc:language>
  <cp:lastModifiedBy>200756</cp:lastModifiedBy>
  <dcterms:modified xsi:type="dcterms:W3CDTF">2013-02-01T18:21:33Z</dcterms:modified>
  <cp:revision>1</cp:revision>
  <dc:subject/>
  <dc:title>Titanium </dc:title>
</cp:coreProperties>
</file>