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233-AA54-4E98-B71E-518D31F1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467-4101-4DF0-8C99-32E7F86B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514-EF9E-4A7F-8C3F-AD2D785F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D1D-E147-493C-9F3A-529EC539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85E-B311-4F69-B692-4321AA79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0D37-4181-4940-B8DB-1F07062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D517-5388-4513-A7E4-04D593AD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A583-9EAD-44F5-BC47-01B454CD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77F-272D-4582-8B91-93E51D2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9F71-CA5A-4C36-ACA3-DEE69399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E8BA-30E1-4886-B2C6-32A41D46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D1E-C683-4BC5-BCCF-1B6A7A6C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B314-1C9D-4FC4-B6EB-EFA5C0B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3BB4-5622-4B85-978A-8D7716BD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D0BA-9F5D-49F9-BDE2-4C4860BC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51D3-7297-4BCE-9737-F09F0C27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C5E9-4F1C-4D3C-9E75-B4ACE7BD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929-9404-4A8D-AD7D-EE2AD15A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080-2947-45A5-8754-8E88AC57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94E-9A95-4D67-9DBE-12934C5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436F-1E59-4E35-BE3B-C5C5105C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9C8F-51C1-410D-BA68-B334830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798F-34E9-4648-A7D4-F57A0497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EEF8-BAC2-4A56-8D45-12A4C81B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98F5-A892-4F67-A709-11522EE23C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2A3B-D0EB-46DC-A693-B087B48F78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lement With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: Landon Cl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esting fa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7339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42% lighter than ste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the only metal that burns in nitrog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Symbol: Ti</a:t>
            </a:r>
            <a:br>
              <a:rPr sz="20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number: 22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419112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tomic Mass: 47. 86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oup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od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anium-crystal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14920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titanium-ore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98" name="TitaniumMetal_jpg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002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316548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1008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 Prot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6 Neutr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14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Proper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8195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il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lt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quid Ran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89548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are very  reactive metals –they all fizz and dissolve in plain wa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2819520"/>
            <a:ext cx="5410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used in the aerospace industry  to make light weight air frames and engi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lso use them as a component for joint replac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762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y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81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was discovered by William Gregor in England in 1791. He was interested in minerals and reconized the element now known as titaniu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ound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4382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chloride or ticl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tetrachlor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7:58Z</dcterms:created>
  <dc:creator>200756</dc:creator>
  <dc:description/>
  <dc:language>en-US</dc:language>
  <cp:lastModifiedBy>200756</cp:lastModifiedBy>
  <dcterms:modified xsi:type="dcterms:W3CDTF">2013-02-01T18:21:33Z</dcterms:modified>
  <cp:revision>1</cp:revision>
  <dc:subject/>
  <dc:title>Titanium </dc:title>
</cp:coreProperties>
</file>