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666D-A098-4B7C-8041-CF06EFFE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696-716B-4B44-80FF-C95B13D9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CB4-37B6-4B38-B246-1DCDC3FA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BF3-5C10-4701-BEE0-A819B27F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6A8C-2186-40F0-9C4C-E5E3E562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3169-2932-42B5-863F-729016D4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B52B-7060-4E86-9C47-44F27FF9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CF98-69E4-4CE0-9019-D696096B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D53F-347C-4C9F-B1EB-15670721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E202-C9A6-401C-9AA1-FCDFFC3A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8150-D158-4923-84A4-B94B1181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17D-D8C2-4122-A349-60C5EF60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7BA4-2B2E-403F-9350-03918419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1EF0-DF5D-42D0-B0AE-96C905A3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CEE4-D290-4141-B8F2-9A891D43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CF1F-4305-4CC5-9A69-AEA1934D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D0B6-88AC-4644-B7AA-A5795E82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DFD-5534-4F39-8DDB-1D03F0F3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B59-B1E7-4133-A62D-3CE5BE81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E7C-4C2B-4020-ABCA-51617E1E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A2B-56E7-4B4B-B641-75BB1F34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BDD-511F-45A4-B90D-B3FD4BE6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F147-8661-4A8F-B4DB-A0628E7F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FEDA-EFB4-4F1F-B55B-8DB67B0C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308C-AF00-4713-B154-12B8615186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FCAD-CD10-479F-AC5B-332E8645EB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itanium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Element With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: Landon Cla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teresting fact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3733920"/>
            <a:ext cx="5867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is 42% lighter than stee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is the only metal that burns in nitrog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2743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itanium</a:t>
            </a:r>
            <a:br>
              <a:rPr sz="44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tomic Symbol: Ti</a:t>
            </a:r>
            <a:br>
              <a:rPr sz="20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tomic number: 22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4191120"/>
            <a:ext cx="5257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tomic Mass: 47. 86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roup Number: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od Number: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anium-crystal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2149200" cy="2149560"/>
          </a:xfrm>
          <a:prstGeom prst="rect">
            <a:avLst/>
          </a:prstGeom>
          <a:ln w="0">
            <a:noFill/>
          </a:ln>
        </p:spPr>
      </p:pic>
      <p:pic>
        <p:nvPicPr>
          <p:cNvPr id="97" name="titanium-ore" descr=""/>
          <p:cNvPicPr/>
          <p:nvPr/>
        </p:nvPicPr>
        <p:blipFill>
          <a:blip r:embed="rId2"/>
          <a:stretch/>
        </p:blipFill>
        <p:spPr>
          <a:xfrm>
            <a:off x="2895480" y="3733920"/>
            <a:ext cx="2011320" cy="1508040"/>
          </a:xfrm>
          <a:prstGeom prst="rect">
            <a:avLst/>
          </a:prstGeom>
          <a:ln w="0">
            <a:noFill/>
          </a:ln>
        </p:spPr>
      </p:pic>
      <p:pic>
        <p:nvPicPr>
          <p:cNvPr id="98" name="TitaniumMetal_jpg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29718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b0022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3165480" cy="3143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410080" y="34290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2 Proton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6 Neutr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1143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hysical Propert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819520"/>
            <a:ext cx="4800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iling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lting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quid Ran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609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hemical proper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895480"/>
            <a:ext cx="5105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y are very  reactive metals –they all fizz and dissolve in plain wat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3880" y="2819520"/>
            <a:ext cx="5410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is used in the aerospace industry  to make light weight air frames and engin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lso use them as a component for joint replaceme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7621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istory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04812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was discovered by William Gregor in England in 1791. He was interested in minerals and reconized the element now known as titaniu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ound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43828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ichloride or ticl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tetrachlori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7:58Z</dcterms:created>
  <dc:creator>200756</dc:creator>
  <dc:description/>
  <dc:language>en-US</dc:language>
  <cp:lastModifiedBy>200756</cp:lastModifiedBy>
  <dcterms:modified xsi:type="dcterms:W3CDTF">2013-02-01T18:21:33Z</dcterms:modified>
  <cp:revision>1</cp:revision>
  <dc:subject/>
  <dc:title>Titanium </dc:title>
</cp:coreProperties>
</file>