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538-E255-4930-9BE3-84D3C91A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3FF-9A0F-4EDC-B7BF-1085D3D9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793-1CA7-46BE-8D43-08E0005A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4FB-1AEF-44B2-AA8B-72717B28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062-1AB4-42F2-A1DA-AE7A74B1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2DD-CC9B-4261-A516-7235BCAD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2DBE-EE34-4FC8-A673-995F91DA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041-072C-401C-B2C5-145D3035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1CC0-4D28-47D4-A55F-CCC39FCF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BB9-083B-4FE9-8BA4-E87B8F7A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E59-0187-41EF-AB03-60C1780F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358-C527-4A5A-A59A-E9CF3872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0433-C0D2-4FF8-9965-31B0D40C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!Thulium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named after Thule, the ancient name for Scandina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rarest of the Lanthan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cut with a kn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has very few 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ost obscure elements in the periodic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lium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8.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: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: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286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f Portra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ytterbium-3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343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lium (x999,999,999, etc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0131625-Thulium,_atomic_structure-SPL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000320" cy="400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State: Sol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sity: 9.32 g/cm^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lting Point: (1545 C)(2813 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iling Point: (1950 C)(3542 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hemical-elements.findthedata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 luminesce and silver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al is soft    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nishes slowly in 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ns at 150 C to form thulium 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ts with all hal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solves in sulfur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X-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ar Re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wav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was discovered by Per Teodor Cleve in 18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 was so rare, early workers didn’t have enough to purify it into it’s green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les James was the first to obtain nearly pure thul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ice was $13,300 per kg in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Wikipe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lium’s only isotope is Thulium-1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5T16:46:02Z</dcterms:created>
  <dc:creator>200784</dc:creator>
  <dc:description/>
  <dc:language>en-US</dc:language>
  <cp:lastModifiedBy>200784</cp:lastModifiedBy>
  <dcterms:modified xsi:type="dcterms:W3CDTF">2013-02-06T16:46:47Z</dcterms:modified>
  <cp:revision>2</cp:revision>
  <dc:subject/>
  <dc:title>!Thulium!</dc:title>
</cp:coreProperties>
</file>