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39F-5A48-49B8-A0CD-85AF5255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FAD-196D-4AF8-94E4-F613170A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DE3-02BF-4661-8774-12F4964E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B59-F585-42AF-83A3-ACE968B1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60E-A26D-4BD4-BB6B-0EEED6F4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96D-B95C-47F8-A432-02477301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1A3-7074-44D7-B43F-BD72BC7A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7CC-2334-4857-A171-2D5BBDF7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9D1-DB99-4072-B678-00087333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762-A83B-4164-82F1-D3321E19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EFB-2D9D-4D73-A91E-201DFD7B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942-2751-4323-BED9-D3DFDF8D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7F87-5088-40DC-A312-C990A77C7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!Thulium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named after Thule, the ancient name for Scandina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rarest of the Lanthan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cut with a kn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 has very few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most obscure elements in the periodic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lium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8.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: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: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2286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 Portra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ytterbium-3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3434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lium (x999,999,999, etc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0131625-Thulium,_atomic_structure-SPL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000320" cy="40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State: 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: 9.32 g/cm^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ting Point: (1545 C)(2813 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iling Point: (1950 C)(3542 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hemical-elements.findthedata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 luminesce and silver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al is soft    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nishes slowly in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ns at 150 C to form thulium 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s with all hal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olves in sulfur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X-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ar Re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wave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 was discovered by Per Teodor Cleve in 18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 was so rare, early workers didn’t have enough to purify it into it’s green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les James was the first to obtain nearly pure thul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ce was $13,300 per kg in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’s only isotope is Thulium-1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6:46:02Z</dcterms:created>
  <dc:creator>200784</dc:creator>
  <dc:description/>
  <dc:language>en-US</dc:language>
  <cp:lastModifiedBy>200784</cp:lastModifiedBy>
  <dcterms:modified xsi:type="dcterms:W3CDTF">2013-02-06T16:46:47Z</dcterms:modified>
  <cp:revision>2</cp:revision>
  <dc:subject/>
  <dc:title>!Thulium!</dc:title>
</cp:coreProperties>
</file>