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FBA2-3E12-4348-B2BD-B3AC8B71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C7C9-988D-429B-A09B-D2664AC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D57-EEE0-4498-B8FE-E824DC8B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E1B-71D5-4E89-8E73-F0799186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43D-F1AF-4F06-9F6B-0DF141BB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1BC-549B-4913-B2CF-1000FF41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AC2-44B3-4BE8-BC5E-0F90165F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8701-5A8C-487F-B421-79D9505A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8A4-E745-41E4-BAEF-661D159E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63D-8527-4FAD-B7F5-DD778F4B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AB7-505F-488A-A9E9-4049506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7467-EBDF-4F79-AED4-3D427D72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541B-2502-4AFE-BCB2-FA95B4A1A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!Thuliu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amed after Thule, the ancient name for Scandina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rarest of the Lanthan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ut with a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has very few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obscure elements in the periodic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8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ytterbium-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 (x999,999,999, etc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0131625-Thulium,_atomic_structure-SPL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000320" cy="40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State: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: 9.32 g/cm^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 Point: (1545 C)(2813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Point: (1950 C)(3542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emical-elements.findthedata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luminesce and silver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al is soft    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nishes slowly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s at 150 C to form thulium 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s with all hal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s in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X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ar Re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discovered by Per Teodor Cleve in 18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so rare, early workers didn’t have enough to purify it into it’s gree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James was the first to obtain nearly pure thu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ce was $13,300 per kg in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’s only isotope is Thulium-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6:46:02Z</dcterms:created>
  <dc:creator>200784</dc:creator>
  <dc:description/>
  <dc:language>en-US</dc:language>
  <cp:lastModifiedBy>200784</cp:lastModifiedBy>
  <dcterms:modified xsi:type="dcterms:W3CDTF">2013-02-06T16:46:47Z</dcterms:modified>
  <cp:revision>2</cp:revision>
  <dc:subject/>
  <dc:title>!Thulium!</dc:title>
</cp:coreProperties>
</file>