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FFE9-817C-4D6E-94B0-305B44A7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B9D7-663E-45CF-96B7-41BBE4AD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CBA3-D6D2-41F0-9C1E-D7D5230B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EDFD-6189-466C-8C14-F5DF62BE7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516E-4E50-43FB-986A-F81EC2F7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1869-A7AF-48A6-85B6-77C3B761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68DF-B922-4C7F-B3F5-FCECF1D6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E074-BD36-4CDC-8EE7-3297BAD8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0464-68D0-4A58-A081-86DACE11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7B2E-74AF-42B6-870C-9CCCC7E3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9BFD-D3E7-4431-A6E8-AF4FF04A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30AB-C6E2-4A4A-9472-098906FD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60B1-AA35-4F11-AB56-9CFF5DF89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!Thulium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esting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named after Thule, the ancient name for Scandinav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the rarest of the Lanthan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can be cut with a kn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lium has very few 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 most obscure elements in the periodic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ulium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8.9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: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: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2286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f Portra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ytterbium-3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34340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ulium (x999,999,999, etc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0131625-Thulium,_atomic_structure-SPL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4000320" cy="400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State: So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sity: 9.32 g/cm^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lting Point: (1545 C)(2813 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iling Point: (1950 C)(3542 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hemical-elements.findthedata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a luminesce and silver 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tal is soft    -Wikip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mical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nishes slowly in 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ns at 150 C to form thulium 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ts with all hal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solves in sulfur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Wikip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X-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clear Re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wave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Wikip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lium was discovered by Per Teodor Cleve in 187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lium was so rare, early workers didn’t have enough to purify it into it’s green 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les James was the first to obtain nearly pure thul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ice was $13,300 per kg in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Wikip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lium’s only isotope is Thulium-16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16:46:02Z</dcterms:created>
  <dc:creator>200784</dc:creator>
  <dc:description/>
  <dc:language>en-US</dc:language>
  <cp:lastModifiedBy>200784</cp:lastModifiedBy>
  <dcterms:modified xsi:type="dcterms:W3CDTF">2013-02-06T16:46:47Z</dcterms:modified>
  <cp:revision>2</cp:revision>
  <dc:subject/>
  <dc:title>!Thulium!</dc:title>
</cp:coreProperties>
</file>