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F1E-F906-443D-9643-2DF0D086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AA44-D1CF-4434-B1E9-18A85A57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A4A7-C644-4C26-8595-AE863D4B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CEB-FE39-4C02-BB34-3523B907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A443-42A5-4A1E-B0E9-3FD4630D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41D5-C4C4-49C6-925C-D23DC085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6F5-1C46-45DB-9BF3-D3DEFFBD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4E1B-239C-4BB0-B63D-CFD6F564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9BFA-851B-4DA0-9738-91A33104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C479-A0A3-4878-B01F-6EAEE1CC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92E-0D58-45E1-B54D-1F0A5889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8E9D-24DD-44E2-8022-D6B128E2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1AFC-5464-49CB-AB21-42B2460F8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ment 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9880" y="6172200"/>
            <a:ext cx="5181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 Bailey Moun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tterbium was the first rare earth to be discovered, and is the most common of the rare ear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impossible to get 100% pure Ytterb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more common than tin, bromine, uranium, and arsen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tterbium metal (99.9% pure) costs about $360 per kilogram. (as of 2/8/2004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77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symbol: Y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number: 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: 1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number: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number: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ting point: 1515 degrees Fahrenhe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ing point: 2185 degrees Fahre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range: 372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of solid: 6570 Kg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ar volume: 24.84 cm cu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so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is malle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exhibits a bright silvery lu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slowly reacts with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s of 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sed for portable x-ray machines that do not need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s as an industrial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Ytterb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discovered by Jean De Marign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ed in Switzerland in 18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d after the village “Ytterby” near Vaxholm in Swe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topes: 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tropes: there are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compounds: fluorides, chlorides, bromides, iodides, oxidessulfides, selenides, and tellur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6094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otopes, Allotropes and important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23:02:55Z</dcterms:created>
  <dc:creator>Mark</dc:creator>
  <dc:description/>
  <dc:language>en-US</dc:language>
  <cp:lastModifiedBy>200761</cp:lastModifiedBy>
  <dcterms:modified xsi:type="dcterms:W3CDTF">2013-01-31T19:11:01Z</dcterms:modified>
  <cp:revision>5</cp:revision>
  <dc:subject/>
  <dc:title>The element Ytterbium</dc:title>
</cp:coreProperties>
</file>