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905-6E10-4AA2-9067-5193875E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058-6A61-45CA-A112-8E60B77F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72B-A254-470C-AE6B-8D9966EA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71A5-D912-4C92-B7FF-B55F0AA1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FE2-392E-44B2-8D52-EBDAD9C8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767-6CBF-4560-8AD0-C13465F0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F3A-650A-4C95-9E87-A0AA0A36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597-0175-45F1-9BE1-561B9A25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00D-7AF9-476F-9ED4-516CB19A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C20-BA8D-4902-A003-B9D81BBB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CD4-221B-48AC-9383-7014537E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7DF-E99E-4AD4-84CD-E76A2C2D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D70D-3CFE-4653-AD22-7AE5562F4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ment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9880" y="617220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Bailey Moun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tterbium was the first rare earth to be discovered, and is the most common of the rare ear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impossible to get 100% pure Ytterb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more common than tin, bromine, uranium, and arse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tterbium metal (99.9% pure) costs about $360 per kilogram. (as of 2/8/2004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77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77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7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symbol: 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: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: 1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number: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number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point: 1515 degrees Fahrenhe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ing point: 2185 degrees 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range: 372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of solid: 6570 Kg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ar volume: 24.84 cm cu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so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malle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exhibits a bright silvery lu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slowly reacts with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portable x-ray machines that do not need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s as an industrial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discovered by Jean De Marig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in Switzerland in 18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after the village “Ytterby” near Vaxholm in Swe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topes: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tropes: there are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compounds: fluorides, chlorides, bromides, iodides, oxidessulfides, selenides, and tellur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6094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, Allotropes and important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23:02:55Z</dcterms:created>
  <dc:creator>Mark</dc:creator>
  <dc:description/>
  <dc:language>en-US</dc:language>
  <cp:lastModifiedBy>200761</cp:lastModifiedBy>
  <dcterms:modified xsi:type="dcterms:W3CDTF">2013-01-31T19:11:01Z</dcterms:modified>
  <cp:revision>5</cp:revision>
  <dc:subject/>
  <dc:title>The element Ytterbium</dc:title>
</cp:coreProperties>
</file>