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A99-C7F7-438D-ABA4-A1E6F9E6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093-4C18-4A26-ADBA-0F700816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CA5-1CFA-4C67-907A-84A38452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116-DBF1-46BD-BDAC-053E90E8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C2B-7E2F-495A-BCAB-B7746A9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492-135C-4CC9-BA57-AC8230D9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85C-508F-4B3F-9051-E388783F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205-A7E9-4C45-8D99-05767773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6DF-CF11-4901-9B53-D7E9776B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CDE-5C12-4901-8CA2-69B83837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6DF-1ADF-4977-B3B2-6BE8AD23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681-42C4-4A34-A7F9-FD1A28C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CB45-29C0-48B8-918E-6022FA98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ment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617220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ailey Moun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was the first rare earth to be discovered, and is the most common of the rare ear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ssible to get 100% pure Ytterb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more common than tin, bromine, uranium, and arse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metal (99.9% pure) costs about $360 per kilogram. (as of 2/8/2004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symbol: 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: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: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umber: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number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: 1515 degrees Fahrenh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: 2185 degrees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range: 372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of solid: 6570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 volume: 24.84 cm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malle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exhibits a bright silvery 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slowly reacts with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portable x-ray machines that do not need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s as an industrial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discovered by Jean De Marig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in Switzerland in 18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the village “Ytterby” near Vaxholm in Sw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opes: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tropes: there are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compounds: fluorides, chlorides, bromides, iodides, oxidessulfides, selenides, and tellur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094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, Allotropes and important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23:02:55Z</dcterms:created>
  <dc:creator>Mark</dc:creator>
  <dc:description/>
  <dc:language>en-US</dc:language>
  <cp:lastModifiedBy>200761</cp:lastModifiedBy>
  <dcterms:modified xsi:type="dcterms:W3CDTF">2013-01-31T19:11:01Z</dcterms:modified>
  <cp:revision>5</cp:revision>
  <dc:subject/>
  <dc:title>The element Ytterbium</dc:title>
</cp:coreProperties>
</file>