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C79-3B0F-45FA-8D7A-E80BA83E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2B3-6C14-46E7-A49D-999AF28E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9A5-5B0E-47CF-B384-06E4AA87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6E0-AC42-408B-99D8-6AB04732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334-F83B-4CF4-9309-0B94878E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DB3-975B-48B1-8DBD-5E454559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75A-A738-4B7F-9932-784C9406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A9FF-3EA8-4E53-A5A5-3AD1A65F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6FE-6A3B-48CB-9AB0-67A8A85B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DBE-9A05-4F25-A721-4276FA8D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3FA-77AD-48B8-B430-70E093E3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649-4C33-4864-8A3D-D75EB2C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3468-EDC3-4F3D-B71F-259178789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ment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617220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ailey Moun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was the first rare earth to be discovered, and is the most common of the rare ear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ssible to get 100% pure Ytterb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more common than tin, bromine, uranium, and arse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metal (99.9% pure) costs about $360 per kilogram. (as of 2/8/2004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77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symbol: 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: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: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umber: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number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: 1515 degrees Fahrenh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: 2185 degrees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range: 372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of solid: 6570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 volume: 24.84 cm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malle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exhibits a bright silvery 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slowly reacts wit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portable x-ray machines that do not nee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as an industrial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by Jean De Marig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in Switzerland in 18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the village “Ytterby” near Vaxholm in Sw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pes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tropes: there ar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compounds: fluorides, chlorides, bromides, iodides, oxidessulfides, selenides, and tellu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9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, Allotropes and important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3:02:55Z</dcterms:created>
  <dc:creator>Mark</dc:creator>
  <dc:description/>
  <dc:language>en-US</dc:language>
  <cp:lastModifiedBy>200761</cp:lastModifiedBy>
  <dcterms:modified xsi:type="dcterms:W3CDTF">2013-01-31T19:11:01Z</dcterms:modified>
  <cp:revision>5</cp:revision>
  <dc:subject/>
  <dc:title>The element Ytterbium</dc:title>
</cp:coreProperties>
</file>