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B0C24-A669-41DB-A819-C6D7DF848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7884-2B3D-4AF3-ACE0-99088F92B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CF3F6-0D42-4F6E-BB6C-E0A5E75ED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C41BF-328D-4F6E-9198-1AC9D518A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A8038-AE77-449C-8CF2-6338A1A3D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032FC-7051-4C0A-B7FC-6EB521248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AE254-F822-4BA8-AB9C-3E2178E55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3DABB-6872-4181-93A7-E0485AC9D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246A0-9F1B-49D2-918C-CF68D3EC4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AB177-B663-43B7-A6D1-B5FBB1694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A4214-9A73-4AF0-9E14-3C181965E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91E86-4C8D-4EB4-AE32-74790A9D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7F352-3133-407A-8186-772AE2C21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AB709-BF4B-4ADA-B68A-E1FA347C5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96CBF-98F8-43CC-8619-BB4E72DA0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3F370-47A9-451E-8551-F45D2AF39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7445C-5270-4356-BFBC-7E5ED1EAB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190C-DD64-40B1-B10E-29C58C73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A4DE6-4C37-47C3-9569-4937426C5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7BB7-3E2C-4EE4-BA24-8F3B3950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667C-D65F-400E-94C6-13866F5E0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B9E5-D095-45A2-BD0D-EBFDF252E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9277-B853-450F-AB44-3E0DB3A81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416E-F65A-4D09-B327-A9EDE6ACF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5163-0B03-457E-A85C-1274353C709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3F5C-3816-4632-8BFA-577F0D5F5DD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lver</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ey Porter</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52280"/>
            <a:ext cx="7772400" cy="6019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lv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47</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symbol-A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108</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number-11</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od nu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95720" y="3875040"/>
            <a:ext cx="208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6" name="th" descr=""/>
          <p:cNvPicPr/>
          <p:nvPr/>
        </p:nvPicPr>
        <p:blipFill>
          <a:blip r:embed="rId1"/>
          <a:stretch/>
        </p:blipFill>
        <p:spPr>
          <a:xfrm>
            <a:off x="914400" y="685800"/>
            <a:ext cx="77724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Ag" descr=""/>
          <p:cNvPicPr/>
          <p:nvPr/>
        </p:nvPicPr>
        <p:blipFill>
          <a:blip r:embed="rId1"/>
          <a:stretch/>
        </p:blipFill>
        <p:spPr>
          <a:xfrm>
            <a:off x="1676520" y="457200"/>
            <a:ext cx="693396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hysical propertie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soft and mallea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dor var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shi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emical properties </a:t>
            </a:r>
            <a:endParaRPr b="0" i="1" lang="en-US" sz="4400" spc="-1" strike="noStrike">
              <a:solidFill>
                <a:srgbClr val="ffcc66"/>
              </a:solidFill>
              <a:latin typeface="Times New Roman"/>
            </a:endParaRPr>
          </a:p>
        </p:txBody>
      </p:sp>
      <p:sp>
        <p:nvSpPr>
          <p:cNvPr id="101"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143000" y="2698920"/>
            <a:ext cx="678168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a very inactive metal. It does not react with oxygen in the air in normal circumstan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under normal circumstances</a:t>
            </a:r>
            <a:endParaRPr b="0" lang="en-US" sz="24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e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are coin, jewelry, pot/pans, and silver 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istory</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history of silver has been fascinating ever since man learned how to separate lead from silver. Ever since then man has been make money off of silver by selling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llotropes and isotopes</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has to naturally occuring isotop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tropes of oxygen- O-1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8:55Z</dcterms:created>
  <dc:creator>201395</dc:creator>
  <dc:description/>
  <dc:language>en-US</dc:language>
  <cp:lastModifiedBy>201395</cp:lastModifiedBy>
  <dcterms:modified xsi:type="dcterms:W3CDTF">2013-02-01T17:49:40Z</dcterms:modified>
  <cp:revision>5</cp:revision>
  <dc:subject/>
  <dc:title>Silver</dc:title>
</cp:coreProperties>
</file>