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5EE28-011F-4522-AEC8-B3A0304B3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E5DEA-9152-4B92-B18D-E7D846BB7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11F3E-B796-4CFE-AA75-CCC04CFF0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0C0B1-BD9D-4C78-AE36-12C1AAF75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6142A6-088C-405C-83DA-852CE0339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F4F3A-9E2D-48F5-91A2-A7873EFD8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7C8543-0401-4761-A0AA-930829435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92336-2DDF-4600-90B1-9A3479640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96D25-34B8-4F00-9BE1-1C008AA50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43404-AB67-48F6-9034-A9E289BBE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B4D92-1333-4650-B644-71B5372F6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6109F-D97E-42FE-8AE4-634402887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8D61D-BDD5-45D1-BB22-93B0FB0C9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7C150-2EA6-4A9A-91CF-D1F18224B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7A1D3-BEEF-4012-9910-10BB139C2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34693-D0B8-46A4-A27E-022E25192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DC009-3954-4661-939A-2CB43E38F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D1B13-95F5-4102-B29B-EE4E20844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93B90-772C-496A-A9CF-E89171495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2884F-DD7F-467A-BD51-6D8842EB2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8B989-75C2-4E96-9304-CD4741A5C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F18F6-204F-4AF1-90B2-671726138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14607-052A-47A3-ADE9-1EEFEFD55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93FC0-6F68-4AA9-B8F2-32EE9FDB7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72DD-B8C2-49AA-9559-AB3434223D1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6633-60E7-4F9E-91C5-9F4FA150CBBF}"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Silver</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oey Porter</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52280"/>
            <a:ext cx="7772400" cy="60199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lv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number-47</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symbol-Ag</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omic mass-108</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number-11</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iod numb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3195720" y="3875040"/>
            <a:ext cx="208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endParaRPr b="0" lang="en-US" sz="2400" spc="-1" strike="noStrike">
              <a:solidFill>
                <a:srgbClr val="ffffcc"/>
              </a:solidFill>
              <a:latin typeface="Times New Roman"/>
            </a:endParaRPr>
          </a:p>
        </p:txBody>
      </p:sp>
      <p:pic>
        <p:nvPicPr>
          <p:cNvPr id="96" name="th" descr=""/>
          <p:cNvPicPr/>
          <p:nvPr/>
        </p:nvPicPr>
        <p:blipFill>
          <a:blip r:embed="rId1"/>
          <a:stretch/>
        </p:blipFill>
        <p:spPr>
          <a:xfrm>
            <a:off x="914400" y="685800"/>
            <a:ext cx="77724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Ag" descr=""/>
          <p:cNvPicPr/>
          <p:nvPr/>
        </p:nvPicPr>
        <p:blipFill>
          <a:blip r:embed="rId1"/>
          <a:stretch/>
        </p:blipFill>
        <p:spPr>
          <a:xfrm>
            <a:off x="1676520" y="457200"/>
            <a:ext cx="6933960" cy="5791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Physical propertie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ry soft and malleab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dor vari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is shin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emical properties </a:t>
            </a:r>
            <a:endParaRPr b="0" i="1" lang="en-US" sz="4400" spc="-1" strike="noStrike">
              <a:solidFill>
                <a:srgbClr val="ffcc66"/>
              </a:solidFill>
              <a:latin typeface="Times New Roman"/>
            </a:endParaRPr>
          </a:p>
        </p:txBody>
      </p:sp>
      <p:sp>
        <p:nvSpPr>
          <p:cNvPr id="101"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1143000" y="2698920"/>
            <a:ext cx="6781680" cy="119124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s a very inactive metal. It does not react with oxygen in the air in normal circumstanc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0" y="1876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0" y="3521160"/>
            <a:ext cx="9144000" cy="731880"/>
          </a:xfrm>
          <a:prstGeom prst="rect">
            <a:avLst/>
          </a:prstGeom>
          <a:noFill/>
          <a:ln w="0">
            <a:noFill/>
          </a:ln>
        </p:spPr>
        <p:style>
          <a:lnRef idx="0"/>
          <a:fillRef idx="0"/>
          <a:effectRef idx="0"/>
          <a:fontRef idx="minor"/>
        </p:style>
        <p:txBody>
          <a:bodyPr lIns="0" rIns="0" tIns="0" bIns="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7" name=""/>
          <p:cNvSpPr/>
          <p:nvPr/>
        </p:nvSpPr>
        <p:spPr>
          <a:xfrm>
            <a:off x="0" y="4251240"/>
            <a:ext cx="914400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under normal circumstances</a:t>
            </a:r>
            <a:endParaRPr b="0" lang="en-US" sz="2400" spc="-1" strike="noStrike">
              <a:solidFill>
                <a:srgbClr val="ffffcc"/>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Uses</a:t>
            </a: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es are coin, jewelry, pot/pans, and silver wa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History</a:t>
            </a:r>
            <a:endParaRPr b="0" i="1" lang="en-US"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history of silver has been fascinating ever since man learned how to separate lead from silver. Ever since then man has been make money off of silver by selling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llotropes and isotopes</a:t>
            </a: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has to naturally occuring isotope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tropes of oxygen- O-17.</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8:28:55Z</dcterms:created>
  <dc:creator>201395</dc:creator>
  <dc:description/>
  <dc:language>en-US</dc:language>
  <cp:lastModifiedBy>201395</cp:lastModifiedBy>
  <dcterms:modified xsi:type="dcterms:W3CDTF">2013-02-01T17:49:40Z</dcterms:modified>
  <cp:revision>5</cp:revision>
  <dc:subject/>
  <dc:title>Silver</dc:title>
</cp:coreProperties>
</file>