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1FE7C-7CD8-4C7F-894C-CFB41FD35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6F157-FCA0-4BD7-90CB-6B98E50C8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21EB8-7B4D-4E77-8901-84BDFF22E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E085B-7F73-490C-9CD4-0AFC7D29A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E386D-3971-4DE0-824C-463EC7A82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B05D5-4D17-4DCB-838A-DB45B07FB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98B54-6335-4A4A-A78A-06CC59548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7A6B4-0354-473F-8479-5C3F5D87F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2F3B3-B53E-408B-ACBE-A14972904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D7745-550E-4625-A183-19FBEBBE5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74E60-2F45-47EA-8536-3501DB98E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2F958-A48C-4F71-8B27-82547B71A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1921F-0E57-4D13-96B2-0B3F6953A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E7076-2B67-4AC0-923D-BFFC1E667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F8127-A638-4081-83E4-A931C1372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C90758-4AA1-4372-9BD3-B5210ADF30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5CC7A0-B2C6-4A8A-B919-40DB9D99C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AFD4F-7FEE-4A5F-8F48-9AFA57CFE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D5F8D-53EA-484E-AFA5-E6E2F3955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888C7-7DA3-4D79-97B0-FD16A485F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45529-DE9E-46D5-BFA8-783D96489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FEFE5-285F-427B-8E82-77580C125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75475-58BE-4000-BBAC-999280A2D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12485-34E2-44E9-BD1F-EAE0437AF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25F86-ACBC-4C5C-8B9B-7AFEAE4303E5}"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0894-AE7A-4A42-91AD-14CAF7EC9245}"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ilver</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oey Porter</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52280"/>
            <a:ext cx="7772400" cy="601992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lver</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number-47</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symbol-Ag</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mass-108</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roup number-11</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riod numb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3195720" y="3875040"/>
            <a:ext cx="208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96" name="th" descr=""/>
          <p:cNvPicPr/>
          <p:nvPr/>
        </p:nvPicPr>
        <p:blipFill>
          <a:blip r:embed="rId1"/>
          <a:stretch/>
        </p:blipFill>
        <p:spPr>
          <a:xfrm>
            <a:off x="914400" y="685800"/>
            <a:ext cx="7772400" cy="515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Ag" descr=""/>
          <p:cNvPicPr/>
          <p:nvPr/>
        </p:nvPicPr>
        <p:blipFill>
          <a:blip r:embed="rId1"/>
          <a:stretch/>
        </p:blipFill>
        <p:spPr>
          <a:xfrm>
            <a:off x="1676520" y="457200"/>
            <a:ext cx="6933960" cy="5791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hysical properties</a:t>
            </a: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ery soft and malleab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dor vari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t is shin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emical properties </a:t>
            </a:r>
            <a:endParaRPr b="0" i="1" lang="en-US" sz="4400" spc="-1" strike="noStrike">
              <a:solidFill>
                <a:srgbClr val="ffcc66"/>
              </a:solidFill>
              <a:latin typeface="Times New Roman"/>
            </a:endParaRPr>
          </a:p>
        </p:txBody>
      </p:sp>
      <p:sp>
        <p:nvSpPr>
          <p:cNvPr id="101" name=""/>
          <p:cNvSpPr/>
          <p:nvPr/>
        </p:nvSpPr>
        <p:spPr>
          <a:xfrm>
            <a:off x="0" y="1876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2" name=""/>
          <p:cNvSpPr/>
          <p:nvPr/>
        </p:nvSpPr>
        <p:spPr>
          <a:xfrm>
            <a:off x="1143000" y="2698920"/>
            <a:ext cx="6781680" cy="119124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s a very inactive metal. It does not react with oxygen in the air in normal circumstance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3" name=""/>
          <p:cNvSpPr/>
          <p:nvPr/>
        </p:nvSpPr>
        <p:spPr>
          <a:xfrm>
            <a:off x="0" y="3521160"/>
            <a:ext cx="9144000" cy="731880"/>
          </a:xfrm>
          <a:prstGeom prst="rect">
            <a:avLst/>
          </a:prstGeom>
          <a:noFill/>
          <a:ln w="0">
            <a:noFill/>
          </a:ln>
        </p:spPr>
        <p:style>
          <a:lnRef idx="0"/>
          <a:fillRef idx="0"/>
          <a:effectRef idx="0"/>
          <a:fontRef idx="minor"/>
        </p:style>
        <p:txBody>
          <a:bodyPr lIns="0" rIns="0" tIns="0" bIns="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4" name=""/>
          <p:cNvSpPr/>
          <p:nvPr/>
        </p:nvSpPr>
        <p:spPr>
          <a:xfrm>
            <a:off x="0" y="4251240"/>
            <a:ext cx="914400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5" name=""/>
          <p:cNvSpPr/>
          <p:nvPr/>
        </p:nvSpPr>
        <p:spPr>
          <a:xfrm>
            <a:off x="0" y="1876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6" name=""/>
          <p:cNvSpPr/>
          <p:nvPr/>
        </p:nvSpPr>
        <p:spPr>
          <a:xfrm>
            <a:off x="0" y="3521160"/>
            <a:ext cx="9144000" cy="731880"/>
          </a:xfrm>
          <a:prstGeom prst="rect">
            <a:avLst/>
          </a:prstGeom>
          <a:noFill/>
          <a:ln w="0">
            <a:noFill/>
          </a:ln>
        </p:spPr>
        <p:style>
          <a:lnRef idx="0"/>
          <a:fillRef idx="0"/>
          <a:effectRef idx="0"/>
          <a:fontRef idx="minor"/>
        </p:style>
        <p:txBody>
          <a:bodyPr lIns="0" rIns="0" tIns="0" bIns="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7" name=""/>
          <p:cNvSpPr/>
          <p:nvPr/>
        </p:nvSpPr>
        <p:spPr>
          <a:xfrm>
            <a:off x="0" y="4251240"/>
            <a:ext cx="914400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ir under normal circumstances</a:t>
            </a:r>
            <a:endParaRPr b="0" lang="en-US" sz="2400" spc="-1" strike="noStrike">
              <a:solidFill>
                <a:srgbClr val="ffffcc"/>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Uses</a:t>
            </a:r>
            <a:endParaRPr b="0" i="1" lang="en-US"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ses are coin, jewelry, pot/pans, and silver war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istory</a:t>
            </a:r>
            <a:endParaRPr b="0" i="1" lang="en-US"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history of silver has been fascinating ever since man learned how to separate lead from silver. Ever since then man has been make money off of silver by selling i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llotropes and isotopes</a:t>
            </a:r>
            <a:endParaRPr b="0" i="1" lang="en-US" sz="4400" spc="-1" strike="noStrike">
              <a:solidFill>
                <a:srgbClr val="ffcc66"/>
              </a:solidFill>
              <a:latin typeface="Times New Roman"/>
            </a:endParaRPr>
          </a:p>
        </p:txBody>
      </p:sp>
      <p:sp>
        <p:nvSpPr>
          <p:cNvPr id="11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t has to naturally occuring isotop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lotropes of oxygen- O-17.</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18:28:55Z</dcterms:created>
  <dc:creator>201395</dc:creator>
  <dc:description/>
  <dc:language>en-US</dc:language>
  <cp:lastModifiedBy>201395</cp:lastModifiedBy>
  <dcterms:modified xsi:type="dcterms:W3CDTF">2013-02-01T17:49:40Z</dcterms:modified>
  <cp:revision>5</cp:revision>
  <dc:subject/>
  <dc:title>Silver</dc:title>
</cp:coreProperties>
</file>