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78BBE-3D32-4C46-B955-FE9FE0F1A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32C61-1315-4F1C-A38C-4E8D46DE8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BD5ED-305B-4F8F-8A11-57A8DE4D2C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EA2FBB-32C4-467A-BCD2-22C77A6A0B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1B17E8-F444-48A3-A2E7-802B3A9F19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55CA53-AE00-4867-80C6-38AAD4E7BA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9"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D7BD1-E050-4181-A675-01FA369A60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3"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577789-4151-4C76-86A9-3D395DD727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5"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6"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E39EE9-7545-47B4-9F51-629796DA6B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1"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66930A-FFA2-499D-806E-96C49443A9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3"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4"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7"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8"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6CAF9B-CE25-44B1-84E0-95657102C0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0A60955-E124-48F3-BAC1-51AEA97BCEA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7B065-02FE-432F-ABDA-8C9DA5D45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5"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D8EDE1-C78E-4A2B-9DC8-A459375E6C7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C869E1-D3F3-479B-9C3F-49228BE592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BD186B-DFBE-4F81-88B0-C1AE5CC3C9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C78CBF-CA4E-4214-A0BB-9D2F2CAA87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21D91F-E000-4077-87F4-6E916D3D88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DF23B8-2B9F-42C6-90B7-1058D1B5D6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0"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A9CA25-A8D9-4066-A141-5B2B5306F9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4"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9103B1-348E-47C1-9804-23F2B6AFC1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6"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7"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EF6543-DCF7-4EC4-9A5B-128BE30CA1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B8CD0C-68D3-4039-8E87-31DB19E8391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05766-BBE2-4476-A57A-4C1511110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4"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5"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8"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9"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21DCCD-D689-4AC2-8E2B-F2264144E91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4ACEEA3-72E7-45B4-958E-F1ED999EB68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2DF31C-9FF6-44AF-AD65-25A1C7C131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8791A4-6A4E-4741-81B0-BFEC8EBACE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A70AEA-1439-4B4D-AAFC-A0BC22B197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AC9BA5-C37D-42AA-800F-EE9E493483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5201EA-FD26-4D09-82BB-ACB56862EE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C0FB43-C36C-4F56-823A-063EC2AA1D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7A9689-EE45-42A4-8399-7AD6964421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A47630-40E8-4C5B-8E4B-D6381A0447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0CB4D-4D85-4A8D-989B-D837DBDF4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69697E-9A26-436B-944D-302C0ECF8E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90BEC6-B01B-4E86-8009-E416442B061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D93DC6-693B-4520-8801-437683A49C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E03E9B-266C-4320-BB0C-BEAB8B4BFC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9758F3F-9363-4575-93F0-21BBA35436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9C86B3-C9AD-4469-BFBD-5EAD44418A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0EBE7C-E307-4895-9C50-62BE9972F3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D9081E-CF06-4E78-A6FB-05ED248097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2AD4BA-D7E0-4E8D-81E1-CBCB47AC8D3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41499F-043B-4E0C-A17B-5480EA259B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DA345-C826-4F1C-AF6D-111B2CA50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5B5F34-0CF0-4D2B-ADED-3A50951460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E9473F-48A8-41E1-8095-350A36868A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FDF3C8-E44B-4BB3-BF62-0809D5C547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D287832-7AF1-44CC-8785-A2959D5EE6F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3CACB2-07A4-4032-B676-6B5DD67EBB4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D4CF7-87F0-411C-902A-34ADC6841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EB49E-36CB-4BA6-9E9A-26FC74568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9C6C1-3981-445A-8A64-D69382A32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B8AE9-2185-4E60-8CCC-EFBB1BB8D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ABA9D-5571-4BA8-8994-19B162DDB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695C0-17CB-4455-A0F3-FFE0841DF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3559B-D48F-4027-BADB-B87E5B6B9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099FB-B0CA-41B0-BB9B-CC0C814B5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EAD9E-7987-44ED-836B-93FF8016D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52D22-76F3-4615-814C-9717D1CF0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36D68-DEAF-482D-B5B4-7755EF581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C8433B-65FC-4DD2-8FC0-4EDCBDFFEF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8"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39CE9D-0ED8-4246-8786-3B8016903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BA7909-69B6-4765-B6BB-C65661ED08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35E4C8-EC9E-4238-A9CF-F27391D81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688D0-AB00-47D5-AC66-958C9D8FB1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A17C9-FFA5-49C1-A94B-9BB220D31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C063B7-B04D-41CA-A99C-47E186E4B1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3E3F8-ADAF-485F-9779-D4307388A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3"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0E7D0-E98D-4FCE-8D94-5B0F19118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7"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D391D2-0F0C-461C-8459-91FF96F01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9"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FD944-3420-452F-A513-29DD914E6C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5"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38456-404C-4203-9CD9-7A18D3D0AE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7"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8"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1"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2"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77331E-C848-4890-8703-684AD7ACF7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DE9909-BCC2-4893-95C7-A428C70F9A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9"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C0E393-4409-46E0-97D4-32408D387D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1"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1917C4-0BBC-4621-A407-B3D6DD7F69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2667D-83C6-42DD-92F5-21C2FF90D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397DA-503B-4932-B489-0066A2D82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D6794C-1288-4A41-B58C-A727B95EA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A263E-015E-452C-BF8B-983A41AF7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6F5A8-EDB8-4C4E-82FF-74FD0D9A3F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4"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A2173C-5BC0-496E-9E51-B31DB4EB50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8"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17C5B-C3DF-479E-B7DE-508E80D33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0"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DF93FB-27BE-4270-A085-93EA2EED8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6"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374E69-5B02-4FC2-955A-6EBB273703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8"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9"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5150C9-5383-4C20-803B-8817FFBDF1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7B1C94-5611-458D-A85E-AFEEE69963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59254-4348-4BC3-91D7-7430C2C77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0"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460F31-58AE-41CF-8A98-CEC7C1F61F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B3DA4E-13F6-4FBB-85E2-25E1A723AB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8F92FD-C111-4502-9475-F5156D363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3FAC2-594D-4527-953F-9290B0FC5F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3AD58A-E1E9-4342-85B3-C6594FD12C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44A6F-8F66-4C69-95A4-6E58E85B22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5"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133D1B-B9CB-4CAB-8649-B70CA5ADB0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9"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2E598-4BE8-40AF-8CE7-8FF1305374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1"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2"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1FB3A9-526F-4876-B7FD-FF06211EB1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7"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E3E94A-8FD0-48E5-AC79-222080E33C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6D0E4-51EC-41D9-9B13-85CE900A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9"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0"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3"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4"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22BB25-56A9-4006-9142-6784F2E416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B232F2-F741-40F4-BC5C-4878738FF2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1"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A6E646-24D5-4A8E-ADED-812CE82087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3"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C65901-E7F1-4B42-B21F-FBC911DCCE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248A54-167F-489B-9DC1-0E20E3350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B06048-26F6-4DDE-942A-94980E5B3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C30D3-83E6-41BD-AF84-08746DDBA0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435DF-82BF-4068-BC41-DD838FAA6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6"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0081FB-2BEB-4744-8053-16482ED36B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0"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A16BB-75D0-4276-9E0F-C13D0367D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1790F-6FAA-40C7-9457-A5758F210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2"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3"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A8A3D4-3D3E-438E-B8FA-9041F3B769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8"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3C9BDF-4E69-40A0-BE14-3846695515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0"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1"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4"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5"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F092AF-2F6E-49FA-87B4-D6DA91C726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910069-C043-4CCD-AD32-026A0CD6DD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2"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BA0616-C36B-4359-9BEE-DE2388FB69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8AD76-47A8-4445-8393-8A521A49B3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4BEC03-DCD6-4389-9212-625745645E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C78509-C61D-4178-A8EE-3E7507E77D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E688AD-20DA-4479-A833-BCA8DB2546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9EF2F-C842-47E5-957A-BA46530AD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23CA1-B5FF-4EEB-A741-1D18EAE92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7"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512FB5-E1D3-4F8B-BC82-BFF0BD203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1"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F25952-2E79-4116-8225-1DAB92C70C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3"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4"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DC5905-50A7-4888-A87E-6E9F6ADA29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9"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E264C4-5AB4-4EAE-AFC0-C7C097A001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1"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2"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5"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6"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85C1A7-28D8-46E1-8FC9-A545AACC1A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35E568-FA8F-442B-9454-7B6FB067EB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3"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6A413B-B20C-4A50-801C-C4D1CA04C6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97927-57C5-4357-A283-0457C039A9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2981CB-9289-4B34-A787-B3650545F4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771CA5-241D-45B3-BDF1-A852CA272D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ECD3-8D1C-419A-8B6D-CEB033B7B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6458B7-0FA0-4CC4-9127-CD64CFA0AA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3B65A2-ABAB-4801-AB0C-B53B515FB7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8"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A3685F-7A2A-4F57-9816-96AEC733EB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2"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F17FE2-4EED-417D-9625-B69E29F326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4"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5"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F98BDC-962E-4130-9858-19D485C2B2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0"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16297D-656A-4D9A-86BE-AF2D55152B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2"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3"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6"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7"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BB9E1A-7A9E-4B31-BB77-3649CA9A87F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9D302E-00D9-4F40-B809-A170EF0ABE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4"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93E074-0A4A-4EB0-948D-440F5E9365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01D92B-A303-4A11-AFC1-F298679548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1028"/>
          <p:cNvSpPr/>
          <p:nvPr/>
        </p:nvSpPr>
        <p:spPr>
          <a:xfrm>
            <a:off x="3587760" y="54000"/>
            <a:ext cx="1982880" cy="65412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Oval 1029"/>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1030"/>
          <p:cNvSpPr/>
          <p:nvPr/>
        </p:nvSpPr>
        <p:spPr>
          <a:xfrm>
            <a:off x="3586320" y="452520"/>
            <a:ext cx="1984320" cy="3045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1031"/>
          <p:cNvSpPr/>
          <p:nvPr/>
        </p:nvSpPr>
        <p:spPr>
          <a:xfrm>
            <a:off x="3586320" y="507960"/>
            <a:ext cx="1984320" cy="306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1032"/>
          <p:cNvSpPr/>
          <p:nvPr/>
        </p:nvSpPr>
        <p:spPr>
          <a:xfrm>
            <a:off x="3598920" y="557280"/>
            <a:ext cx="1947960" cy="228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1033"/>
          <p:cNvSpPr/>
          <p:nvPr/>
        </p:nvSpPr>
        <p:spPr>
          <a:xfrm>
            <a:off x="4869000" y="249120"/>
            <a:ext cx="122040" cy="40644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34"/>
          <p:cNvSpPr/>
          <p:nvPr/>
        </p:nvSpPr>
        <p:spPr>
          <a:xfrm>
            <a:off x="3605040" y="19080"/>
            <a:ext cx="195120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Freeform 1035"/>
          <p:cNvSpPr/>
          <p:nvPr/>
        </p:nvSpPr>
        <p:spPr>
          <a:xfrm>
            <a:off x="4191120" y="235080"/>
            <a:ext cx="9036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0" name="Group 1036"/>
          <p:cNvGrpSpPr/>
          <p:nvPr/>
        </p:nvGrpSpPr>
        <p:grpSpPr>
          <a:xfrm>
            <a:off x="63360" y="154080"/>
            <a:ext cx="3435480" cy="520560"/>
            <a:chOff x="63360" y="154080"/>
            <a:chExt cx="3435480" cy="520560"/>
          </a:xfrm>
        </p:grpSpPr>
        <p:sp>
          <p:nvSpPr>
            <p:cNvPr id="11" name="Freeform 1037"/>
            <p:cNvSpPr/>
            <p:nvPr/>
          </p:nvSpPr>
          <p:spPr>
            <a:xfrm>
              <a:off x="63360" y="154080"/>
              <a:ext cx="3435480" cy="423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Freeform 1038"/>
            <p:cNvSpPr/>
            <p:nvPr/>
          </p:nvSpPr>
          <p:spPr>
            <a:xfrm>
              <a:off x="63360" y="425520"/>
              <a:ext cx="3435480" cy="1825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Freeform 1039"/>
            <p:cNvSpPr/>
            <p:nvPr/>
          </p:nvSpPr>
          <p:spPr>
            <a:xfrm>
              <a:off x="63360" y="487440"/>
              <a:ext cx="3435480" cy="18720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Freeform 1040"/>
            <p:cNvSpPr/>
            <p:nvPr/>
          </p:nvSpPr>
          <p:spPr>
            <a:xfrm>
              <a:off x="82440" y="165240"/>
              <a:ext cx="3381480" cy="24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Freeform 1041"/>
            <p:cNvSpPr/>
            <p:nvPr/>
          </p:nvSpPr>
          <p:spPr>
            <a:xfrm>
              <a:off x="90360" y="550800"/>
              <a:ext cx="3378240" cy="986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16" name="Group 1042"/>
          <p:cNvGrpSpPr/>
          <p:nvPr/>
        </p:nvGrpSpPr>
        <p:grpSpPr>
          <a:xfrm>
            <a:off x="5646600" y="154080"/>
            <a:ext cx="3435480" cy="552240"/>
            <a:chOff x="5646600" y="154080"/>
            <a:chExt cx="3435480" cy="552240"/>
          </a:xfrm>
        </p:grpSpPr>
        <p:sp>
          <p:nvSpPr>
            <p:cNvPr id="17" name="Freeform 1043"/>
            <p:cNvSpPr/>
            <p:nvPr/>
          </p:nvSpPr>
          <p:spPr>
            <a:xfrm>
              <a:off x="5646600" y="154080"/>
              <a:ext cx="3435480" cy="450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Freeform 1044"/>
            <p:cNvSpPr/>
            <p:nvPr/>
          </p:nvSpPr>
          <p:spPr>
            <a:xfrm>
              <a:off x="5646600" y="441360"/>
              <a:ext cx="3435480" cy="1951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Freeform 1045"/>
            <p:cNvSpPr/>
            <p:nvPr/>
          </p:nvSpPr>
          <p:spPr>
            <a:xfrm>
              <a:off x="5646600" y="507960"/>
              <a:ext cx="3435480" cy="198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Freeform 1046"/>
            <p:cNvSpPr/>
            <p:nvPr/>
          </p:nvSpPr>
          <p:spPr>
            <a:xfrm>
              <a:off x="5667480" y="165240"/>
              <a:ext cx="3379680" cy="2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Freeform 1047"/>
            <p:cNvSpPr/>
            <p:nvPr/>
          </p:nvSpPr>
          <p:spPr>
            <a:xfrm>
              <a:off x="5673600" y="576360"/>
              <a:ext cx="3378240" cy="1029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0281-3E34-41D4-A5D3-D44EA2C401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10"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1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7E2BD-999F-43E2-80CF-D894C99EF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5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33C1-A7AD-4262-8C54-98969A467D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9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9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CC77-B649-466A-9208-54D7DD1FBC8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 name="Freeform 1026"/>
          <p:cNvSpPr/>
          <p:nvPr/>
        </p:nvSpPr>
        <p:spPr>
          <a:xfrm>
            <a:off x="3024360" y="46080"/>
            <a:ext cx="3144600" cy="104616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Oval 1027"/>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Freeform 1028"/>
          <p:cNvSpPr/>
          <p:nvPr/>
        </p:nvSpPr>
        <p:spPr>
          <a:xfrm>
            <a:off x="3022560" y="684360"/>
            <a:ext cx="3146400" cy="48564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Freeform 1029"/>
          <p:cNvSpPr/>
          <p:nvPr/>
        </p:nvSpPr>
        <p:spPr>
          <a:xfrm>
            <a:off x="3022560" y="771480"/>
            <a:ext cx="3146400" cy="49068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Freeform 1030"/>
          <p:cNvSpPr/>
          <p:nvPr/>
        </p:nvSpPr>
        <p:spPr>
          <a:xfrm>
            <a:off x="3044880" y="851040"/>
            <a:ext cx="3085920" cy="3650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 name="Freeform 1031"/>
          <p:cNvSpPr/>
          <p:nvPr/>
        </p:nvSpPr>
        <p:spPr>
          <a:xfrm>
            <a:off x="5057640" y="358920"/>
            <a:ext cx="193680" cy="64908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 name="Freeform 1032"/>
          <p:cNvSpPr/>
          <p:nvPr/>
        </p:nvSpPr>
        <p:spPr>
          <a:xfrm>
            <a:off x="3052800" y="4680"/>
            <a:ext cx="3092400" cy="64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 name="Freeform 1033"/>
          <p:cNvSpPr/>
          <p:nvPr/>
        </p:nvSpPr>
        <p:spPr>
          <a:xfrm>
            <a:off x="3981600" y="334800"/>
            <a:ext cx="142560" cy="638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69" name="Group 1034"/>
          <p:cNvGrpSpPr/>
          <p:nvPr/>
        </p:nvGrpSpPr>
        <p:grpSpPr>
          <a:xfrm>
            <a:off x="135000" y="209520"/>
            <a:ext cx="2808360" cy="844560"/>
            <a:chOff x="135000" y="209520"/>
            <a:chExt cx="2808360" cy="844560"/>
          </a:xfrm>
        </p:grpSpPr>
        <p:sp>
          <p:nvSpPr>
            <p:cNvPr id="70" name="Freeform 1035"/>
            <p:cNvSpPr/>
            <p:nvPr/>
          </p:nvSpPr>
          <p:spPr>
            <a:xfrm>
              <a:off x="147600" y="209520"/>
              <a:ext cx="2795760" cy="6778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1" name="Freeform 1036"/>
            <p:cNvSpPr/>
            <p:nvPr/>
          </p:nvSpPr>
          <p:spPr>
            <a:xfrm>
              <a:off x="135000" y="654120"/>
              <a:ext cx="2795400" cy="2937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 name="Freeform 1037"/>
            <p:cNvSpPr/>
            <p:nvPr/>
          </p:nvSpPr>
          <p:spPr>
            <a:xfrm>
              <a:off x="135000" y="755640"/>
              <a:ext cx="2795400" cy="2984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3" name="Freeform 1038"/>
            <p:cNvSpPr/>
            <p:nvPr/>
          </p:nvSpPr>
          <p:spPr>
            <a:xfrm>
              <a:off x="150840" y="239760"/>
              <a:ext cx="2751120" cy="388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4" name="Freeform 1039"/>
            <p:cNvSpPr/>
            <p:nvPr/>
          </p:nvSpPr>
          <p:spPr>
            <a:xfrm>
              <a:off x="155520" y="855720"/>
              <a:ext cx="275112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5" name="Group 1040"/>
          <p:cNvGrpSpPr/>
          <p:nvPr/>
        </p:nvGrpSpPr>
        <p:grpSpPr>
          <a:xfrm>
            <a:off x="6243480" y="222120"/>
            <a:ext cx="2795760" cy="866880"/>
            <a:chOff x="6243480" y="222120"/>
            <a:chExt cx="2795760" cy="866880"/>
          </a:xfrm>
        </p:grpSpPr>
        <p:sp>
          <p:nvSpPr>
            <p:cNvPr id="76" name="Freeform 1041"/>
            <p:cNvSpPr/>
            <p:nvPr/>
          </p:nvSpPr>
          <p:spPr>
            <a:xfrm>
              <a:off x="6243480" y="222120"/>
              <a:ext cx="2795760" cy="7066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 name="Freeform 1042"/>
            <p:cNvSpPr/>
            <p:nvPr/>
          </p:nvSpPr>
          <p:spPr>
            <a:xfrm>
              <a:off x="6243480" y="674640"/>
              <a:ext cx="2795760" cy="30168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8" name="Freeform 1043"/>
            <p:cNvSpPr/>
            <p:nvPr/>
          </p:nvSpPr>
          <p:spPr>
            <a:xfrm>
              <a:off x="6243480" y="776160"/>
              <a:ext cx="2795760" cy="3128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9" name="Freeform 1044"/>
            <p:cNvSpPr/>
            <p:nvPr/>
          </p:nvSpPr>
          <p:spPr>
            <a:xfrm>
              <a:off x="6259680" y="241200"/>
              <a:ext cx="27511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Freeform 1045"/>
            <p:cNvSpPr/>
            <p:nvPr/>
          </p:nvSpPr>
          <p:spPr>
            <a:xfrm>
              <a:off x="6264360" y="882720"/>
              <a:ext cx="2751120" cy="1634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8BD7F-91CD-4FB9-8397-2BB515686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23"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2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4337-A475-4D5C-9903-BEE024C31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64"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6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6527-CE89-446E-9F0A-A56B62C02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05"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0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DAED2-FA11-4511-9F13-D513903E8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46"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4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E9B6-74EC-48DF-B597-C7A77F749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87"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8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BCB6-7907-457A-BEF6-16D2D16937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28"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2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82A8-784A-46E2-843D-C8CD5F325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69"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7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17BE-F110-4B18-A1C7-6BB52D681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image" Target="../media/image3.jpeg"/><Relationship Id="rId5"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ir+humphry+davy&amp;start=155&amp;um=1&amp;hl=en&amp;safe=active&amp;sa=N&amp;biw=1280&amp;bih=827&amp;tbm=isch&amp;tbnid=oWC_vS3jmC-qEM:&amp;imgrefurl=http://lovelypradeep.blogspot.com/2012/01/scientists-killed-by-their-own.html&amp;docid=aYoOZxz1vd_HxM&amp;imgurl=http://2.bp.blogspot.com/-HFRUh9f_9Zk/Tr7-4vIfauI/AAAAAAAACYc/5GjQWmC5ACA/s400/Sir%252BDavid%252BBrewster.jpg&amp;w=300&amp;h=371&amp;ei=Zv5aUffpLIqi9QSs4IG4Dw&amp;zoom=1&amp;iact=hc&amp;vpx=1031&amp;vpy=440&amp;dur=1514&amp;hovh=250&amp;hovw=202&amp;tx=142&amp;ty=118&amp;page=4&amp;tbnh=146&amp;tbnw=107&amp;ndsp=51&amp;ved=1t:429,r:75,s:100,i:229"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magnesium&amp;um=1&amp;hl=en&amp;safe=active&amp;sa=N&amp;biw=1024&amp;bih=571&amp;tbm=isch&amp;tbnid=kR6TOZeJ0-hHRM:&amp;imgrefurl=http://images-of-elements.com/magnesium.php&amp;docid=WjaTeSuVURKyyM&amp;imgurl=http://images-of-elements.com/magnesium.jpg&amp;w=1424&amp;h=1424&amp;ei=4xtTUfrZCYjm8QTdrYCgCA&amp;zoom=1&amp;iact=rc&amp;dur=137&amp;page=1&amp;tbnh=144&amp;tbnw=151&amp;start=0&amp;ndsp=18&amp;ved=1t:429,r:1,s:0,i:87&amp;tx=135&amp;ty=120" TargetMode="External"/><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2d+picture+of+magnesium&amp;um=1&amp;hl=en&amp;safe=active&amp;biw=1024&amp;bih=571&amp;tbm=isch&amp;tbnid=ORBh9u8Cxw9x6M:&amp;imgrefurl=http://www.chemspider.com/ImageView.aspx%3Fid%3D14398&amp;docid=Dq_lyw09F7Dw6M&amp;itg=1&amp;imgurl=http://www.chemspider.com/ImagesHandler.ashx%253Fid%253D14398%2526w%253D500%2526h%253D500&amp;w=500&amp;h=500&amp;ei=zyBTUejmBoq49gSlmIDoDQ&amp;zoom=1&amp;iact=hc&amp;vpx=135&amp;vpy=69&amp;dur=8145&amp;hovh=225&amp;hovw=225&amp;tx=133&amp;ty=149&amp;page=1&amp;tbnh=150&amp;tbnw=152&amp;start=0&amp;ndsp=17&amp;ved=1t:429,r:12,s:0,i:120" TargetMode="External"/><Relationship Id="rId3" Type="http://schemas.openxmlformats.org/officeDocument/2006/relationships/image" Target="../media/image6.jpeg"/><Relationship Id="rId4" Type="http://schemas.openxmlformats.org/officeDocument/2006/relationships/hyperlink" Target="http://www.google.com/imgres?q=magnesium&amp;um=1&amp;hl=en&amp;safe=active&amp;biw=1024&amp;bih=571&amp;tbm=isch&amp;tbnid=_0pOw9NaQ0AgkM:&amp;imgrefurl=http://periodictable.com/Elements/012/index.html&amp;docid=rK-oO80yTAKEpM&amp;imgurl=http://periodictable.com/Samples/012.15/s9s.JPG&amp;w=356&amp;h=356&amp;ei=ZCFTUfzNOY6E8QS_54FY&amp;zoom=1&amp;iact=hc&amp;vpx=2&amp;vpy=106&amp;dur=406&amp;hovh=225&amp;hovw=225&amp;tx=86&amp;ty=125&amp;page=2&amp;tbnh=140&amp;tbnw=140&amp;start=18&amp;ndsp=20&amp;ved=1t:429,r:18,s:0,i:138" TargetMode="External"/><Relationship Id="rId5" Type="http://schemas.openxmlformats.org/officeDocument/2006/relationships/image" Target="../media/image7.jpeg"/><Relationship Id="rId6"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142640"/>
            <a:ext cx="7772400" cy="1143000"/>
          </a:xfrm>
          <a:prstGeom prst="rect">
            <a:avLst/>
          </a:prstGeom>
          <a:solidFill>
            <a:srgbClr val="00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adaae"/>
                </a:solidFill>
                <a:latin typeface="Vladimir Script"/>
              </a:rPr>
              <a:t>Magnesium</a:t>
            </a:r>
            <a:r>
              <a:rPr b="0" lang="en-US" sz="7200" spc="-1" strike="noStrike">
                <a:solidFill>
                  <a:srgbClr val="ffffcc"/>
                </a:solidFill>
                <a:latin typeface="Vladimir Script"/>
              </a:rPr>
              <a:t> </a:t>
            </a:r>
            <a:endParaRPr b="0" lang="en-US" sz="7200" spc="-1" strike="noStrike">
              <a:solidFill>
                <a:srgbClr val="ffffcc"/>
              </a:solidFill>
              <a:latin typeface="Times New Roman"/>
            </a:endParaRPr>
          </a:p>
        </p:txBody>
      </p:sp>
      <p:sp>
        <p:nvSpPr>
          <p:cNvPr id="533" name="PlaceHolder 2"/>
          <p:cNvSpPr>
            <a:spLocks noGrp="1"/>
          </p:cNvSpPr>
          <p:nvPr>
            <p:ph type="subTitle"/>
          </p:nvPr>
        </p:nvSpPr>
        <p:spPr>
          <a:xfrm>
            <a:off x="746280" y="3265200"/>
            <a:ext cx="7500960" cy="2679480"/>
          </a:xfrm>
          <a:prstGeom prst="rect">
            <a:avLst/>
          </a:prstGeom>
          <a:solidFill>
            <a:srgbClr val="33ccff"/>
          </a:solid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Courtney Kilgore</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amp;</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Shayla Edmonson</a:t>
            </a:r>
            <a:endParaRPr b="0" lang="en-US" sz="4800" spc="-1" strike="noStrike">
              <a:solidFill>
                <a:srgbClr val="ffffcc"/>
              </a:solidFill>
              <a:latin typeface="Times New Roman"/>
            </a:endParaRPr>
          </a:p>
        </p:txBody>
      </p:sp>
      <p:pic>
        <p:nvPicPr>
          <p:cNvPr id="534" name="Picture 4" descr="C:\Program Files\Microsoft Office\Clipart\standard\stddir1\AN01151_.wmf"/>
          <p:cNvPicPr/>
          <p:nvPr/>
        </p:nvPicPr>
        <p:blipFill>
          <a:blip r:embed="rId2"/>
          <a:stretch/>
        </p:blipFill>
        <p:spPr>
          <a:xfrm>
            <a:off x="6754680" y="3124080"/>
            <a:ext cx="965160" cy="2659320"/>
          </a:xfrm>
          <a:prstGeom prst="rect">
            <a:avLst/>
          </a:prstGeom>
          <a:ln w="0">
            <a:noFill/>
          </a:ln>
        </p:spPr>
      </p:pic>
      <p:sp>
        <p:nvSpPr>
          <p:cNvPr id="535" name="Rectangle 7"/>
          <p:cNvSpPr/>
          <p:nvPr/>
        </p:nvSpPr>
        <p:spPr>
          <a:xfrm>
            <a:off x="3537000" y="3892680"/>
            <a:ext cx="151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536" name="Rectangle 10"/>
          <p:cNvSpPr/>
          <p:nvPr/>
        </p:nvSpPr>
        <p:spPr>
          <a:xfrm>
            <a:off x="3319560" y="3892680"/>
            <a:ext cx="187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537" name="Picture 9" descr="http://ts3.mm.bing.net/th?id=H.5028806299486794&amp;pid=1.7&amp;w=210&amp;h=155&amp;c=7&amp;rs=1">
            <a:hlinkClick r:id="rId3" action="ppaction://hlinksldjump"/>
          </p:cNvPr>
          <p:cNvPicPr/>
          <p:nvPr/>
        </p:nvPicPr>
        <p:blipFill>
          <a:blip r:embed="rId4"/>
          <a:stretch/>
        </p:blipFill>
        <p:spPr>
          <a:xfrm>
            <a:off x="0" y="4788000"/>
            <a:ext cx="2514600" cy="20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34640" y="888480"/>
            <a:ext cx="8885160" cy="1155960"/>
          </a:xfrm>
          <a:prstGeom prst="rect">
            <a:avLst/>
          </a:prstGeom>
          <a:solidFill>
            <a:srgbClr val="99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iscovery </a:t>
            </a:r>
            <a:endParaRPr b="0" lang="en-US" sz="4400" spc="-1" strike="noStrike">
              <a:solidFill>
                <a:srgbClr val="ffffcc"/>
              </a:solidFill>
              <a:latin typeface="Times New Roman"/>
            </a:endParaRPr>
          </a:p>
        </p:txBody>
      </p:sp>
      <p:sp>
        <p:nvSpPr>
          <p:cNvPr id="575" name="PlaceHolder 2"/>
          <p:cNvSpPr>
            <a:spLocks noGrp="1"/>
          </p:cNvSpPr>
          <p:nvPr>
            <p:ph/>
          </p:nvPr>
        </p:nvSpPr>
        <p:spPr>
          <a:xfrm>
            <a:off x="0" y="1752120"/>
            <a:ext cx="9144000" cy="2210040"/>
          </a:xfrm>
          <a:prstGeom prst="rect">
            <a:avLst/>
          </a:prstGeom>
          <a:solidFill>
            <a:srgbClr val="66ffff"/>
          </a:solidFill>
          <a:ln w="9360">
            <a:solidFill>
              <a:srgbClr val="0099ff"/>
            </a:solidFill>
            <a:miter/>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d as an element by black 1775; isolated by sir Humphrey Davy 1808 (England) </a:t>
            </a:r>
            <a:endParaRPr b="0" lang="en-US" sz="2800" spc="-1" strike="noStrike">
              <a:solidFill>
                <a:srgbClr val="ffffcc"/>
              </a:solidFill>
              <a:latin typeface="Times New Roman"/>
            </a:endParaRPr>
          </a:p>
        </p:txBody>
      </p:sp>
      <p:sp>
        <p:nvSpPr>
          <p:cNvPr id="576"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7" name="Rectangle 6"/>
          <p:cNvSpPr/>
          <p:nvPr/>
        </p:nvSpPr>
        <p:spPr>
          <a:xfrm>
            <a:off x="7483320" y="3016080"/>
            <a:ext cx="14432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8" name="Rectangle 10"/>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79"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0" name="Picture 9" descr="http://t3.gstatic.com/images?q=tbn:ANd9GcTMSmQPqLGzRNFKoclxAOBl-IWofOLEFqxvgLuwPDRoWwDLovBh_w">
            <a:hlinkClick r:id="rId2"/>
          </p:cNvPr>
          <p:cNvPicPr/>
          <p:nvPr/>
        </p:nvPicPr>
        <p:blipFill>
          <a:blip r:embed="rId3"/>
          <a:stretch/>
        </p:blipFill>
        <p:spPr>
          <a:xfrm>
            <a:off x="3276720" y="3962520"/>
            <a:ext cx="2338200" cy="2895480"/>
          </a:xfrm>
          <a:prstGeom prst="rect">
            <a:avLst/>
          </a:prstGeom>
          <a:ln w="0">
            <a:noFill/>
          </a:ln>
        </p:spPr>
      </p:pic>
      <p:sp>
        <p:nvSpPr>
          <p:cNvPr id="581" name="Rectangle 1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2" name="Rectangle 13"/>
          <p:cNvSpPr/>
          <p:nvPr/>
        </p:nvSpPr>
        <p:spPr>
          <a:xfrm>
            <a:off x="131760" y="203976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17"/>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84" name="Rectangle 18"/>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5" name="Picture 16" descr="http://t0.gstatic.com/images?q=tbn:ANd9GcT3M1eCEalRQ81ySxSyJ_eyov_NK21SqxQJAiAiC0P9VqsYGS5APg"/>
          <p:cNvPicPr/>
          <p:nvPr/>
        </p:nvPicPr>
        <p:blipFill>
          <a:blip r:embed="rId4"/>
          <a:stretch/>
        </p:blipFill>
        <p:spPr>
          <a:xfrm>
            <a:off x="6730920" y="3962520"/>
            <a:ext cx="2413080" cy="2895480"/>
          </a:xfrm>
          <a:prstGeom prst="rect">
            <a:avLst/>
          </a:prstGeom>
          <a:ln w="0">
            <a:noFill/>
          </a:ln>
        </p:spPr>
      </p:pic>
      <p:sp>
        <p:nvSpPr>
          <p:cNvPr id="586" name="Rectangle 19"/>
          <p:cNvSpPr/>
          <p:nvPr/>
        </p:nvSpPr>
        <p:spPr>
          <a:xfrm>
            <a:off x="3824280" y="2490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7" name="Rectangle 22"/>
          <p:cNvSpPr/>
          <p:nvPr/>
        </p:nvSpPr>
        <p:spPr>
          <a:xfrm>
            <a:off x="3916440" y="3487680"/>
            <a:ext cx="736560" cy="218520"/>
          </a:xfrm>
          <a:prstGeom prst="rect">
            <a:avLst/>
          </a:prstGeom>
          <a:noFill/>
          <a:ln w="0">
            <a:noFill/>
          </a:ln>
        </p:spPr>
        <p:style>
          <a:lnRef idx="0"/>
          <a:fillRef idx="0"/>
          <a:effectRef idx="0"/>
          <a:fontRef idx="minor"/>
        </p:style>
        <p:txBody>
          <a:bodyPr lIns="0" rIns="85680" tIns="0" bIns="81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endParaRPr b="0" lang="en-US" sz="900" spc="-1" strike="noStrike">
              <a:solidFill>
                <a:srgbClr val="ffffcc"/>
              </a:solidFill>
              <a:latin typeface="Times New Roman"/>
            </a:endParaRPr>
          </a:p>
        </p:txBody>
      </p:sp>
      <p:sp>
        <p:nvSpPr>
          <p:cNvPr id="588" name="Rectangle 23"/>
          <p:cNvSpPr/>
          <p:nvPr/>
        </p:nvSpPr>
        <p:spPr>
          <a:xfrm>
            <a:off x="3916440" y="2513160"/>
            <a:ext cx="360" cy="7794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9" name="Rectangle 24"/>
          <p:cNvSpPr/>
          <p:nvPr/>
        </p:nvSpPr>
        <p:spPr>
          <a:xfrm>
            <a:off x="3916440" y="2536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90" name="Picture 21" descr="http://t1.gstatic.com/images?q=tbn:ANd9GcSQUCoh-sYnIAdfVIw5QsyxdC4hZrXgCNqmDws5A-ySrMw99bjevEMNQlqO"/>
          <p:cNvPicPr/>
          <p:nvPr/>
        </p:nvPicPr>
        <p:blipFill>
          <a:blip r:embed="rId5"/>
          <a:stretch/>
        </p:blipFill>
        <p:spPr>
          <a:xfrm>
            <a:off x="228600" y="3962520"/>
            <a:ext cx="214488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34640" y="888480"/>
            <a:ext cx="8885160" cy="1155960"/>
          </a:xfrm>
          <a:prstGeom prst="rect">
            <a:avLst/>
          </a:prstGeom>
          <a:solidFill>
            <a:srgbClr val="ff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andom Facts</a:t>
            </a:r>
            <a:endParaRPr b="0" lang="en-US" sz="4400" spc="-1" strike="noStrike">
              <a:solidFill>
                <a:srgbClr val="ffffcc"/>
              </a:solidFill>
              <a:latin typeface="Times New Roman"/>
            </a:endParaRPr>
          </a:p>
        </p:txBody>
      </p:sp>
      <p:sp>
        <p:nvSpPr>
          <p:cNvPr id="592" name="PlaceHolder 2"/>
          <p:cNvSpPr>
            <a:spLocks noGrp="1"/>
          </p:cNvSpPr>
          <p:nvPr>
            <p:ph/>
          </p:nvPr>
        </p:nvSpPr>
        <p:spPr>
          <a:xfrm>
            <a:off x="0" y="2057040"/>
            <a:ext cx="9144000" cy="4800600"/>
          </a:xfrm>
          <a:prstGeom prst="rect">
            <a:avLst/>
          </a:prstGeom>
          <a:solidFill>
            <a:srgbClr val="66ff33"/>
          </a:solidFill>
          <a:ln w="0">
            <a:noFill/>
          </a:ln>
        </p:spPr>
        <p:txBody>
          <a:bodyPr anchor="t">
            <a:normAutofit fontScale="85000"/>
          </a:bodyPr>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weight - 24.30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lement classification – Alkaline Earth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nsity (g/co) – 1,738</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onstant (a) -  3.210</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Radius (pm) – 160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A Ratio – 1.62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volume (cc/mol) – 14.0</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cas registry Number -  7439 -95-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Covalent radius (pm) – 136</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Inaccuracies – 66 (t2e)</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Specific heat (@20’cj/g mol ) – 1.02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ppears – light weight, malleable, silvery – white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usion heat (kJ/mol): - 9.2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vaporation heat (kJ/mol) –131.8</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bye temperature (k) – 318.0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Pauling negativity number – 1.31</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irst Ienizing energy  (kJ/mol) – 737.3</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Oxidation states – 2</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Lattice stucture -  Hexagonal</a:t>
            </a:r>
            <a:endParaRPr b="0" lang="en-US" sz="1800" spc="-1" strike="noStrike">
              <a:solidFill>
                <a:srgbClr val="ffffcc"/>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91600" indent="-29160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4640" y="888480"/>
            <a:ext cx="8885160" cy="115596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Magnesium</a:t>
            </a:r>
            <a:endParaRPr b="0" lang="en-US" sz="4400" spc="-1" strike="noStrike">
              <a:solidFill>
                <a:srgbClr val="ffffcc"/>
              </a:solidFill>
              <a:latin typeface="Times New Roman"/>
            </a:endParaRPr>
          </a:p>
        </p:txBody>
      </p:sp>
      <p:sp>
        <p:nvSpPr>
          <p:cNvPr id="539" name="PlaceHolder 2"/>
          <p:cNvSpPr>
            <a:spLocks noGrp="1"/>
          </p:cNvSpPr>
          <p:nvPr>
            <p:ph/>
          </p:nvPr>
        </p:nvSpPr>
        <p:spPr>
          <a:xfrm>
            <a:off x="685800" y="1905120"/>
            <a:ext cx="7772400" cy="4114800"/>
          </a:xfrm>
          <a:prstGeom prst="rect">
            <a:avLst/>
          </a:prstGeom>
          <a:solidFill>
            <a:srgbClr val="ff9966"/>
          </a:solidFill>
          <a:ln w="9360">
            <a:solidFill>
              <a:srgbClr val="99ff33"/>
            </a:solidFill>
            <a:miter/>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emical symbol - M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 - 1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 - 24.305</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roup number - 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eriod number - 3</a:t>
            </a:r>
            <a:endParaRPr b="0" lang="en-US" sz="3200" spc="-1" strike="noStrike">
              <a:solidFill>
                <a:srgbClr val="ffffcc"/>
              </a:solidFill>
              <a:latin typeface="Times New Roman"/>
            </a:endParaRPr>
          </a:p>
        </p:txBody>
      </p:sp>
      <p:pic>
        <p:nvPicPr>
          <p:cNvPr id="540" name="Picture 4" descr="C:\Program Files\Microsoft Office\Clipart\standard\stddir1\AN02065_.wmf"/>
          <p:cNvPicPr/>
          <p:nvPr/>
        </p:nvPicPr>
        <p:blipFill>
          <a:blip r:embed="rId2"/>
          <a:stretch/>
        </p:blipFill>
        <p:spPr>
          <a:xfrm>
            <a:off x="7230960" y="4724280"/>
            <a:ext cx="19130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4640" y="888480"/>
            <a:ext cx="8885160" cy="1155960"/>
          </a:xfrm>
          <a:prstGeom prst="rect">
            <a:avLst/>
          </a:prstGeom>
          <a:solidFill>
            <a:srgbClr val="9999ff"/>
          </a:solidFill>
          <a:ln w="9360">
            <a:solidFill>
              <a:srgbClr val="ff99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dadaae"/>
                </a:solidFill>
                <a:latin typeface="Times New Roman"/>
              </a:rPr>
              <a:t>Magnesium</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542" name="Rectangle 6"/>
          <p:cNvSpPr/>
          <p:nvPr/>
        </p:nvSpPr>
        <p:spPr>
          <a:xfrm>
            <a:off x="3852720" y="2625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3" name="Rectangle 9"/>
          <p:cNvSpPr/>
          <p:nvPr/>
        </p:nvSpPr>
        <p:spPr>
          <a:xfrm>
            <a:off x="3944880" y="3957480"/>
            <a:ext cx="1347840" cy="275760"/>
          </a:xfrm>
          <a:prstGeom prst="rect">
            <a:avLst/>
          </a:prstGeom>
          <a:noFill/>
          <a:ln w="0">
            <a:noFill/>
          </a:ln>
        </p:spPr>
        <p:style>
          <a:lnRef idx="0"/>
          <a:fillRef idx="0"/>
          <a:effectRef idx="0"/>
          <a:fontRef idx="minor"/>
        </p:style>
        <p:txBody>
          <a:bodyPr lIns="0" rIns="108000" tIns="0" bIns="108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Times New Roman"/>
              </a:rPr>
              <a:t> </a:t>
            </a:r>
            <a:endParaRPr b="0" lang="en-US" sz="1100" spc="-1" strike="noStrike">
              <a:solidFill>
                <a:srgbClr val="ffffcc"/>
              </a:solidFill>
              <a:latin typeface="Times New Roman"/>
            </a:endParaRPr>
          </a:p>
        </p:txBody>
      </p:sp>
      <p:sp>
        <p:nvSpPr>
          <p:cNvPr id="544" name="Rectangle 10"/>
          <p:cNvSpPr/>
          <p:nvPr/>
        </p:nvSpPr>
        <p:spPr>
          <a:xfrm>
            <a:off x="3944880" y="2639880"/>
            <a:ext cx="360" cy="79380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5" name="Rectangle 11"/>
          <p:cNvSpPr/>
          <p:nvPr/>
        </p:nvSpPr>
        <p:spPr>
          <a:xfrm>
            <a:off x="3944880" y="2671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6" name="AutoShape 8">
            <a:hlinkClick r:id="rId2"/>
          </p:cNvPr>
          <p:cNvSpPr/>
          <p:nvPr/>
        </p:nvSpPr>
        <p:spPr>
          <a:xfrm>
            <a:off x="3978360" y="2644920"/>
            <a:ext cx="296640" cy="29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47" name="Picture 16" descr="http://upload.wikimedia.org/wikipedia/commons/thumb/3/3f/Magnesium_crystals.jpg/250px-Magnesium_crystals.jpg"/>
          <p:cNvPicPr/>
          <p:nvPr/>
        </p:nvPicPr>
        <p:blipFill>
          <a:blip r:embed="rId3"/>
          <a:stretch/>
        </p:blipFill>
        <p:spPr>
          <a:xfrm>
            <a:off x="1676520" y="2038320"/>
            <a:ext cx="6019560" cy="452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4640" y="888480"/>
            <a:ext cx="8885160" cy="115596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2D</a:t>
            </a:r>
            <a:endParaRPr b="0" lang="en-US" sz="4400" spc="-1" strike="noStrike">
              <a:solidFill>
                <a:srgbClr val="ffffcc"/>
              </a:solidFill>
              <a:latin typeface="Times New Roman"/>
            </a:endParaRPr>
          </a:p>
        </p:txBody>
      </p:sp>
      <p:sp>
        <p:nvSpPr>
          <p:cNvPr id="549"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0" name="Rectangle 6"/>
          <p:cNvSpPr/>
          <p:nvPr/>
        </p:nvSpPr>
        <p:spPr>
          <a:xfrm>
            <a:off x="1341360" y="701640"/>
            <a:ext cx="200988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1" name="Rectangle 7"/>
          <p:cNvSpPr/>
          <p:nvPr/>
        </p:nvSpPr>
        <p:spPr>
          <a:xfrm>
            <a:off x="4724280" y="2514600"/>
            <a:ext cx="3810240" cy="34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2" name="Rectangle 10"/>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3"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4" name="Picture 12" descr="http://t1.gstatic.com/images?q=tbn:ANd9GcRLQRTunaVqFNtvqdj-rTW1wRX5Fd7_7HjxaihUD3RX5p-UbfZg">
            <a:hlinkClick r:id="rId2"/>
          </p:cNvPr>
          <p:cNvPicPr/>
          <p:nvPr/>
        </p:nvPicPr>
        <p:blipFill>
          <a:blip r:embed="rId3"/>
          <a:stretch/>
        </p:blipFill>
        <p:spPr>
          <a:xfrm>
            <a:off x="4670280" y="2268360"/>
            <a:ext cx="4361040" cy="3983040"/>
          </a:xfrm>
          <a:prstGeom prst="rect">
            <a:avLst/>
          </a:prstGeom>
          <a:ln w="0">
            <a:noFill/>
          </a:ln>
        </p:spPr>
      </p:pic>
      <p:sp>
        <p:nvSpPr>
          <p:cNvPr id="555"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6" name="Rectangle 14"/>
          <p:cNvSpPr/>
          <p:nvPr/>
        </p:nvSpPr>
        <p:spPr>
          <a:xfrm>
            <a:off x="154080" y="1033560"/>
            <a:ext cx="200952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7" name="Rectangle 18"/>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8" name="Rectangle 1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9" name="Picture 17" descr="http://t2.gstatic.com/images?q=tbn:ANd9GcRrBNIX0bwBms-dmQA5-y7w4ZlFTVOiUmCq6EW_0kYWeawsWome">
            <a:hlinkClick r:id="rId4"/>
          </p:cNvPr>
          <p:cNvPicPr/>
          <p:nvPr/>
        </p:nvPicPr>
        <p:blipFill>
          <a:blip r:embed="rId5"/>
          <a:stretch/>
        </p:blipFill>
        <p:spPr>
          <a:xfrm>
            <a:off x="838080" y="2514600"/>
            <a:ext cx="38862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888480"/>
            <a:ext cx="8885160" cy="1155960"/>
          </a:xfrm>
          <a:prstGeom prst="rect">
            <a:avLst/>
          </a:prstGeom>
          <a:solidFill>
            <a:srgbClr val="00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Physical properties</a:t>
            </a:r>
            <a:endParaRPr b="0" lang="en-US" sz="4400" spc="-1" strike="noStrike">
              <a:solidFill>
                <a:srgbClr val="ffffcc"/>
              </a:solidFill>
              <a:latin typeface="Times New Roman"/>
            </a:endParaRPr>
          </a:p>
        </p:txBody>
      </p:sp>
      <p:sp>
        <p:nvSpPr>
          <p:cNvPr id="561" name="PlaceHolder 2"/>
          <p:cNvSpPr>
            <a:spLocks noGrp="1"/>
          </p:cNvSpPr>
          <p:nvPr>
            <p:ph/>
          </p:nvPr>
        </p:nvSpPr>
        <p:spPr>
          <a:xfrm>
            <a:off x="533520" y="2057040"/>
            <a:ext cx="8076960" cy="4800600"/>
          </a:xfrm>
          <a:prstGeom prst="rect">
            <a:avLst/>
          </a:prstGeom>
          <a:solidFill>
            <a:srgbClr val="85ffe0"/>
          </a:solidFill>
          <a:ln w="0">
            <a:noFill/>
          </a:ln>
        </p:spPr>
        <p:txBody>
          <a:bodyPr anchor="t">
            <a:normAutofit fontScale="94000"/>
          </a:bodyPr>
          <a:p>
            <a:pPr marL="322200" indent="-322200">
              <a:lnSpc>
                <a:spcPct val="90000"/>
              </a:lnSpc>
              <a:spcBef>
                <a:spcPts val="4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imes New Roman"/>
              </a:rPr>
              <a:t>Magnesium has an appearance of a silvery and white shade. Among all the structural metals, magnesium is the lightest. Its boiling point is 1090 degrees Celsius or 1994 degrees Fahrenheit. The metal also displays a very good conductivity of heat and electricity. The structural metals are generally used to build massive structures and buildings. Magnesium however is rarely used in the structures in its free form due to its reactive properties. It is, in such cases, used as an alloy. This metal can be fabricated very easily. Pieces of magnesium can be welded, molded, cut and shaped according to the requirements. About 2.1 percent of the earth's crust contains magnesium. This volume makes magnesium the 6th most found element. One of the biggest deposits of magnesium is found in the sea water. It has been calculated by the scientists, that a cubic mile of seawater contains about six million tones of magnesium. As mentioned in the chemical properties, magnesium is also present in many other compounds like dolomite, magnesium carbonate that is also known as magnesite and magnesium sulfate which is also known by the name epsomite. </a:t>
            </a:r>
            <a:br>
              <a:rPr sz="2000"/>
            </a:br>
            <a:br>
              <a:rPr sz="2000"/>
            </a:b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34640" y="888480"/>
            <a:ext cx="8885160" cy="115596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60a"/>
                </a:solidFill>
                <a:latin typeface="Times New Roman"/>
              </a:rPr>
              <a:t>Chemical properties</a:t>
            </a:r>
            <a:endParaRPr b="0" lang="en-US" sz="4400" spc="-1" strike="noStrike">
              <a:solidFill>
                <a:srgbClr val="ffffcc"/>
              </a:solidFill>
              <a:latin typeface="Times New Roman"/>
            </a:endParaRPr>
          </a:p>
        </p:txBody>
      </p:sp>
      <p:sp>
        <p:nvSpPr>
          <p:cNvPr id="563" name="PlaceHolder 2"/>
          <p:cNvSpPr>
            <a:spLocks noGrp="1"/>
          </p:cNvSpPr>
          <p:nvPr>
            <p:ph/>
          </p:nvPr>
        </p:nvSpPr>
        <p:spPr>
          <a:xfrm>
            <a:off x="0" y="2057040"/>
            <a:ext cx="9144000" cy="4800600"/>
          </a:xfrm>
          <a:prstGeom prst="rect">
            <a:avLst/>
          </a:prstGeom>
          <a:solidFill>
            <a:srgbClr val="ff99ff"/>
          </a:solid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rPr>
              <a:t>Magnesium is located among the alkaline earth metals on the periodic table. This element belongs to the group 2 and period 3 of the periodic table and has the atomic number 12. The average atomic mass of the element magnesium is 24.305. It must be noted that Magnesium is a very reactive metal and does not exist in a free state in nature. It reacts with a slow pace with cold water and at a very rapid pace with hot water. The oxidation process of magnesium is very rapid and if kept in open, a layer of oxidized magnesium is formed on the surface of the metal. Magnesium also burns very rapidly, when it is at room temperature. This burning process is very furious as it produces a blinding white light. This metal also reacts with almost all the acids and alkalizes, forming a variety of different compounds and by products. Another important property of magnesium is that it actively reacts with many non-metals such as nitrogen, phosphorous, chlorine, sulfur, bromine, iodine and fluorine. Magnesium also readily reacts with some other compounds such as carbon monoxide, carbon dioxide, sulfur dioxide and nitric oxide.</a:t>
            </a:r>
            <a:br>
              <a:rPr sz="1800"/>
            </a:br>
            <a:endParaRPr b="0" lang="en-US" sz="1800" spc="-1" strike="noStrike">
              <a:solidFill>
                <a:srgbClr val="ffffcc"/>
              </a:solidFill>
              <a:latin typeface="Times New Roman"/>
            </a:endParaRPr>
          </a:p>
        </p:txBody>
      </p:sp>
      <p:sp>
        <p:nvSpPr>
          <p:cNvPr id="564" name="Rectangle 5"/>
          <p:cNvSpPr/>
          <p:nvPr/>
        </p:nvSpPr>
        <p:spPr>
          <a:xfrm>
            <a:off x="2492280" y="2143080"/>
            <a:ext cx="914400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5" name="Rectangle 10"/>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6" name="Rectangle 19"/>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7" name="Rectangle 28"/>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4640" y="888480"/>
            <a:ext cx="8885160" cy="1155960"/>
          </a:xfrm>
          <a:prstGeom prst="rect">
            <a:avLst/>
          </a:prstGeom>
          <a:solidFill>
            <a:srgbClr val="66ff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uses</a:t>
            </a:r>
            <a:endParaRPr b="0" lang="en-US" sz="4400" spc="-1" strike="noStrike">
              <a:solidFill>
                <a:srgbClr val="ffffcc"/>
              </a:solidFill>
              <a:latin typeface="Times New Roman"/>
            </a:endParaRPr>
          </a:p>
        </p:txBody>
      </p:sp>
      <p:sp>
        <p:nvSpPr>
          <p:cNvPr id="569" name="PlaceHolder 2"/>
          <p:cNvSpPr>
            <a:spLocks noGrp="1"/>
          </p:cNvSpPr>
          <p:nvPr>
            <p:ph/>
          </p:nvPr>
        </p:nvSpPr>
        <p:spPr>
          <a:xfrm>
            <a:off x="0" y="2057040"/>
            <a:ext cx="9144000" cy="4800600"/>
          </a:xfrm>
          <a:prstGeom prst="rect">
            <a:avLst/>
          </a:prstGeom>
          <a:solidFill>
            <a:srgbClr val="ffff00"/>
          </a:solidFill>
          <a:ln w="0">
            <a:noFill/>
          </a:ln>
        </p:spPr>
        <p:txBody>
          <a:bodyPr anchor="t">
            <a:normAutofit/>
          </a:bodyPr>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used in pyrotechnic and incendiary devices. It is alloyed  with other metals to make them lighter and more easily welded , with applications in the aerospace industry.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added to many propellant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It is used as a reducing agent in the preparation of uranium and other metals that are purified from their salts.</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tite organic magnesium compounds have many use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sium is essential fore plant and animal nutrition.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Chlorophyll is a magnesium-centered porphyr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4640" y="888480"/>
            <a:ext cx="8885160" cy="115596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The History</a:t>
            </a:r>
            <a:endParaRPr b="0" lang="en-US" sz="4400" spc="-1" strike="noStrike">
              <a:solidFill>
                <a:srgbClr val="ffffcc"/>
              </a:solidFill>
              <a:latin typeface="Times New Roman"/>
            </a:endParaRPr>
          </a:p>
        </p:txBody>
      </p:sp>
      <p:sp>
        <p:nvSpPr>
          <p:cNvPr id="571" name="PlaceHolder 2"/>
          <p:cNvSpPr>
            <a:spLocks noGrp="1"/>
          </p:cNvSpPr>
          <p:nvPr>
            <p:ph/>
          </p:nvPr>
        </p:nvSpPr>
        <p:spPr>
          <a:xfrm>
            <a:off x="457200" y="1752480"/>
            <a:ext cx="7772400" cy="5105520"/>
          </a:xfrm>
          <a:prstGeom prst="rect">
            <a:avLst/>
          </a:prstGeom>
          <a:solidFill>
            <a:srgbClr val="ffff99"/>
          </a:solid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sium was originally named ‘magnium’ by </a:t>
            </a:r>
            <a:r>
              <a:rPr b="0" lang="en-US" sz="2800" spc="-1" strike="noStrike">
                <a:solidFill>
                  <a:srgbClr val="6600cc"/>
                </a:solidFill>
                <a:latin typeface="Times New Roman"/>
              </a:rPr>
              <a:t>Humphrey Davy  </a:t>
            </a:r>
            <a:r>
              <a:rPr b="0" lang="en-US" sz="2800" spc="-1" strike="noStrike">
                <a:solidFill>
                  <a:srgbClr val="000000"/>
                </a:solidFill>
                <a:latin typeface="Times New Roman"/>
              </a:rPr>
              <a:t>after the element from magnesia, known now as magnesium oxide.  The 1915 Nobel prize is  chemistry was awarded to Richard Wills Tatter  for his work with the chlorophyll and identifying magnesium was the central atom in it’s structure.  Epsom salt a magnesium compound, magnesium sulfate (Mg s04).  Magnesium is the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most aberrant element in</a:t>
            </a:r>
            <a:r>
              <a:rPr b="0" lang="en-US" sz="2800" spc="-1" strike="noStrike">
                <a:solidFill>
                  <a:srgbClr val="ffffcc"/>
                </a:solidFill>
                <a:latin typeface="Times New Roman"/>
              </a:rPr>
              <a:t> </a:t>
            </a:r>
            <a:r>
              <a:rPr b="0" lang="en-US" sz="2800" spc="-1" strike="noStrike">
                <a:solidFill>
                  <a:srgbClr val="000000"/>
                </a:solidFill>
                <a:latin typeface="Times New Roman"/>
              </a:rPr>
              <a:t>the human body.  Magnesium will burn in pure nitrogen gas and pure carbon dioxide gas. Magnesium it’s the fifth most common element fond in sea water.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34640" y="888480"/>
            <a:ext cx="8885160" cy="1155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Allotropes, Isotopes, or Important Compounds</a:t>
            </a:r>
            <a:endParaRPr b="0" lang="en-US" sz="4400" spc="-1" strike="noStrike">
              <a:solidFill>
                <a:srgbClr val="ffffcc"/>
              </a:solidFill>
              <a:latin typeface="Times New Roman"/>
            </a:endParaRPr>
          </a:p>
        </p:txBody>
      </p:sp>
      <p:sp>
        <p:nvSpPr>
          <p:cNvPr id="573" name="PlaceHolder 2"/>
          <p:cNvSpPr>
            <a:spLocks noGrp="1"/>
          </p:cNvSpPr>
          <p:nvPr>
            <p:ph/>
          </p:nvPr>
        </p:nvSpPr>
        <p:spPr>
          <a:xfrm>
            <a:off x="134640" y="2115720"/>
            <a:ext cx="9009000" cy="2227320"/>
          </a:xfrm>
          <a:prstGeom prst="rect">
            <a:avLst/>
          </a:prstGeom>
          <a:solidFill>
            <a:srgbClr val="d2d2f4"/>
          </a:solidFill>
          <a:ln w="0">
            <a:noFill/>
          </a:ln>
        </p:spPr>
        <p:txBody>
          <a:bodyPr anchor="t">
            <a:normAutofit/>
          </a:bodyPr>
          <a:p>
            <a:pPr marL="343080" indent="-343080">
              <a:spcBef>
                <a:spcPts val="7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rPr>
              <a:t>Magnesium has 21 known isotopes ranging from Mg-20 to Mg-40. Magnesium has 3 stable isotopes ; Mg-24, Mg-25 and Mg-26</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49:23Z</dcterms:created>
  <dc:creator>200745</dc:creator>
  <dc:description/>
  <dc:language>en-US</dc:language>
  <cp:lastModifiedBy>201769</cp:lastModifiedBy>
  <dcterms:modified xsi:type="dcterms:W3CDTF">2013-04-09T15:58:17Z</dcterms:modified>
  <cp:revision>24</cp:revision>
  <dc:subject/>
  <dc:title>Magnesium </dc:title>
</cp:coreProperties>
</file>