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F69-3734-48FB-B2DF-E0870C20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69F-C33F-4D5A-87EC-2B34337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32F-E98F-49AA-B3A7-C3DD5878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8B6-9951-4AA2-AF45-0BD3037B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6B8B-BC24-4159-87F5-35DB27F3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12A5-052C-4E8B-8B46-ECF6167F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F794-1FD9-4AD4-A1AD-7B562BB3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4432-5699-4960-B517-DEAAB6C3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3509-97CC-4979-9EC6-D956CE8B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791-6115-457D-9BFE-F9431B4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3092-5F38-4FD0-96A2-C368DA2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DD1-DA59-4E41-920F-F5761EC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89C-C62D-467E-B43C-D0B293E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5D5-A333-4270-A204-1B93C93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B128-D5D1-41D4-B678-0B8FFFB3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C8E-9CF1-4F27-84DE-A8161801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05C0-78C7-4AF2-9CCA-264F8F41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DEA-4813-4C3C-9C7D-1138933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C0D-08F1-4EF2-8B49-CD2B916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E1E-D9FD-4D40-8BC5-D09DB6C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003-208B-4373-BD14-DCFC331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9B3-7DC0-4F37-8350-54B5ED5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BBD-9E5B-4D37-8F20-4291E34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A9A-02CE-4BBE-AF0A-16FFC0BA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E82-3BD5-47AD-A01A-9B247ED5B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DAA-B536-4EFA-96F7-3ABAC02A2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Wide Latin"/>
              </a:rPr>
              <a:t>Neptuniu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By: Chris Sanb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INTERESTING STUF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sometimes used as a detector for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a by product of pluton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6220_" descr=""/>
          <p:cNvPicPr/>
          <p:nvPr/>
        </p:nvPicPr>
        <p:blipFill>
          <a:blip r:embed="rId1"/>
          <a:stretch/>
        </p:blipFill>
        <p:spPr>
          <a:xfrm>
            <a:off x="1300320" y="1946160"/>
            <a:ext cx="354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THE 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END</a:t>
            </a:r>
            <a:endParaRPr b="0" lang="en-US" sz="9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, What Is I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Symbol: N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Number: 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Mass: 2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#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does not have a group number but its part of the Actinid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at" descr=""/>
          <p:cNvPicPr/>
          <p:nvPr/>
        </p:nvPicPr>
        <p:blipFill>
          <a:blip r:embed="rId1"/>
          <a:stretch/>
        </p:blipFill>
        <p:spPr>
          <a:xfrm>
            <a:off x="5481720" y="194616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Extra Bold"/>
              </a:rPr>
              <a:t>Neptunium Photo Galle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14520" y="1946160"/>
          <a:ext cx="528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946160"/>
                    <a:ext cx="528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        </a:t>
            </a: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NEPTUNIUM ATOM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3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oper Black"/>
              </a:rPr>
              <a:t>Neptunium Phys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lting Point: 1179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ing Point: 7232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sity: 20.45 g/cm^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color is a slivery metal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neptunium" descr=""/>
          <p:cNvPicPr/>
          <p:nvPr/>
        </p:nvPicPr>
        <p:blipFill>
          <a:blip r:embed="rId1"/>
          <a:stretch/>
        </p:blipFill>
        <p:spPr>
          <a:xfrm>
            <a:off x="5132520" y="2416320"/>
            <a:ext cx="38098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 Chem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’s oxidation number is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Its electronic configuration is [Rn] 5f4 6d1 7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 is extremely radio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images" descr=""/>
          <p:cNvPicPr/>
          <p:nvPr/>
        </p:nvPicPr>
        <p:blipFill>
          <a:blip r:embed="rId1"/>
          <a:stretch/>
        </p:blipFill>
        <p:spPr>
          <a:xfrm>
            <a:off x="1170000" y="2168640"/>
            <a:ext cx="380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Condensed"/>
              </a:rPr>
              <a:t>Neptunium’s Us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Neptunium is a metal, but is uncommonly used because of its radio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JUMY6CA0E7AI6CAY1P237CAAW4KU3CAVBOWQDCAIYU66MCAVGL7YWCAZC7YFCCA4TOCKXCA5B7NWDCAAZ09DYCA6TML66CA92G69ACAX10HI1CAIBXPLHCAUNQSU7CA5KREW5CAZS6HLZCA38JO15CAZNV5J1" descr=""/>
          <p:cNvPicPr/>
          <p:nvPr/>
        </p:nvPicPr>
        <p:blipFill>
          <a:blip r:embed="rId1"/>
          <a:stretch/>
        </p:blipFill>
        <p:spPr>
          <a:xfrm>
            <a:off x="1170000" y="256716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Neptunium’s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Discovered by edwin m. mcmillan and p.h. abelson in 19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Named after the planet nept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BD00395_" descr=""/>
          <p:cNvPicPr/>
          <p:nvPr/>
        </p:nvPicPr>
        <p:blipFill>
          <a:blip r:embed="rId1"/>
          <a:stretch/>
        </p:blipFill>
        <p:spPr>
          <a:xfrm>
            <a:off x="5132520" y="2001960"/>
            <a:ext cx="3809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’S ISOTOPES AND ALLITROPIC FOR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ALLOTROPIC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PTUNIUM IS AN ARTIFICAIL ELEMENT AND HAS 8 ISOT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YWKH7CAHFT0SZCAAB977JCAY1AGQUCAFZQ6B1CA1V47W2CASW69XMCA01JGGUCA3JK1BNCAXKE56BCAZLVL83CAWLC1OCCAIXJKG4CA7ZBU9LCAN1822HCABI8J8ZCADUF7R1CAD69B4UCAJ1EOEVCAQA5NH1" descr=""/>
          <p:cNvPicPr/>
          <p:nvPr/>
        </p:nvPicPr>
        <p:blipFill>
          <a:blip r:embed="rId1"/>
          <a:stretch/>
        </p:blipFill>
        <p:spPr>
          <a:xfrm>
            <a:off x="5132520" y="259092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1:14Z</dcterms:created>
  <dc:creator>202288</dc:creator>
  <dc:description/>
  <dc:language>en-US</dc:language>
  <cp:lastModifiedBy>202288</cp:lastModifiedBy>
  <dcterms:modified xsi:type="dcterms:W3CDTF">2013-01-21T16:55:12Z</dcterms:modified>
  <cp:revision>5</cp:revision>
  <dc:subject/>
  <dc:title>Neptunium</dc:title>
</cp:coreProperties>
</file>