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D4CD-D3E6-485B-8AEA-BA41D087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0FEA-CD97-45DD-9C95-8DFE4101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EF1D-DD07-4F62-B3F8-DB08C98B2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8C0D-ADC0-43A3-A2CC-37B172378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59A0-23BD-407B-A94B-A781EED76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372A-66CE-4755-855A-EADD5A9F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B320-BD06-41A5-927B-CFFE6B86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745D-D89D-4C64-BEBD-368B9A3D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29C7-0B03-4053-A850-9BDF638A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E293-446A-400E-91C8-A1A6EC97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703B-ADD7-4CD9-A2CC-0EDBC7EF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DADA-FDE6-4A11-AA8E-0878EEEE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2851-2954-4D16-9B2B-42904051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CBA5-442D-4BDD-8A00-C17487BC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C5F8-1A93-4853-B7F8-72EADD15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BD68-F93C-4410-AB25-CF78177D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35CA-41FA-402F-88D2-0FDBE6C21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D84E-1D4B-4586-829A-4D2421DF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B2C2-9F2E-429B-B41B-D43D6185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3705-86A6-43A3-8805-E462E3B6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F6DF-6DEA-4910-B015-25B1789F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7510-0E24-4C0F-A87D-BB69D445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E9C9-8B82-4433-ACA9-F110E91D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242E-6610-440C-A8E2-AF535FB0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6515-97EF-47D3-B9EE-A259556696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76DA-7627-4207-AF33-2C19B02458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Wide Latin"/>
              </a:rPr>
              <a:t>Neptuniu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de Latin"/>
              </a:rPr>
              <a:t>By: Chris Sanbo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Ravie"/>
              </a:rPr>
              <a:t>INTERESTING STUFF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Perpetua Titling MT"/>
              </a:rPr>
              <a:t>.Neptunium is sometimes used as a detector for neutr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Perpetua Titling MT"/>
              </a:rPr>
              <a:t>.Neptunium is a by product of plutoniu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BD06220_" descr=""/>
          <p:cNvPicPr/>
          <p:nvPr/>
        </p:nvPicPr>
        <p:blipFill>
          <a:blip r:embed="rId1"/>
          <a:stretch/>
        </p:blipFill>
        <p:spPr>
          <a:xfrm>
            <a:off x="1300320" y="1946160"/>
            <a:ext cx="354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ffff"/>
                </a:solidFill>
                <a:latin typeface="Wide Latin"/>
              </a:rPr>
              <a:t>	</a:t>
            </a:r>
            <a:r>
              <a:rPr b="0" lang="en-US" sz="9600" spc="-1" strike="noStrike">
                <a:solidFill>
                  <a:srgbClr val="00ffff"/>
                </a:solidFill>
                <a:latin typeface="Wide Latin"/>
              </a:rPr>
              <a:t>THE </a:t>
            </a:r>
            <a:r>
              <a:rPr b="0" lang="en-US" sz="9600" spc="-1" strike="noStrike">
                <a:solidFill>
                  <a:srgbClr val="00ffff"/>
                </a:solidFill>
                <a:latin typeface="Wide Latin"/>
              </a:rPr>
              <a:t>	</a:t>
            </a:r>
            <a:r>
              <a:rPr b="0" lang="en-US" sz="9600" spc="-1" strike="noStrike">
                <a:solidFill>
                  <a:srgbClr val="00ffff"/>
                </a:solidFill>
                <a:latin typeface="Wide Latin"/>
              </a:rPr>
              <a:t>END</a:t>
            </a:r>
            <a:endParaRPr b="0" lang="en-US" sz="9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Neptunium, What Is It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mic Symbol: N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mic Number: 9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omic Mass: 23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iod # 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ptunium does not have a group number but its part of the Actinide fam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cat" descr=""/>
          <p:cNvPicPr/>
          <p:nvPr/>
        </p:nvPicPr>
        <p:blipFill>
          <a:blip r:embed="rId1"/>
          <a:stretch/>
        </p:blipFill>
        <p:spPr>
          <a:xfrm>
            <a:off x="5481720" y="1946160"/>
            <a:ext cx="3111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Rockwell Extra Bold"/>
              </a:rPr>
              <a:t>Neptunium Photo Galle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414520" y="1946160"/>
          <a:ext cx="52833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4520" y="1946160"/>
                    <a:ext cx="5283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Playbill"/>
              </a:rPr>
              <a:t>        </a:t>
            </a:r>
            <a:r>
              <a:rPr b="0" lang="en-US" sz="5400" spc="-1" strike="noStrike">
                <a:solidFill>
                  <a:srgbClr val="00ffff"/>
                </a:solidFill>
                <a:latin typeface="Playbill"/>
              </a:rPr>
              <a:t>NEPTUNIUM ATOM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4357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Cooper Black"/>
              </a:rPr>
              <a:t>Neptunium Physical Properti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lting Point: 1179 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iling Point: 7232 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nsity: 20.45 g/cm^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ptunium color is a slivery metall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neptunium" descr=""/>
          <p:cNvPicPr/>
          <p:nvPr/>
        </p:nvPicPr>
        <p:blipFill>
          <a:blip r:embed="rId1"/>
          <a:stretch/>
        </p:blipFill>
        <p:spPr>
          <a:xfrm>
            <a:off x="5132520" y="2416320"/>
            <a:ext cx="380988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Neptunium Chemical Properti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nap ITC"/>
              </a:rPr>
              <a:t>Neptunium’s oxidation number is 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nap ITC"/>
              </a:rPr>
              <a:t>Its electronic configuration is [Rn] 5f4 6d1 7s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nap ITC"/>
              </a:rPr>
              <a:t>Neptunium is extremely radioac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images" descr=""/>
          <p:cNvPicPr/>
          <p:nvPr/>
        </p:nvPicPr>
        <p:blipFill>
          <a:blip r:embed="rId1"/>
          <a:stretch/>
        </p:blipFill>
        <p:spPr>
          <a:xfrm>
            <a:off x="1170000" y="2168640"/>
            <a:ext cx="38098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Rockwell Condensed"/>
              </a:rPr>
              <a:t>Neptunium’s Uses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stellar"/>
              </a:rPr>
              <a:t>Neptunium is a metal, but is uncommonly used because of its radioa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JUMY6CA0E7AI6CAY1P237CAAW4KU3CAVBOWQDCAIYU66MCAVGL7YWCAZC7YFCCA4TOCKXCA5B7NWDCAAZ09DYCA6TML66CA92G69ACAX10HI1CAIBXPLHCAUNQSU7CA5KREW5CAZS6HLZCA38JO15CAZNV5J1" descr=""/>
          <p:cNvPicPr/>
          <p:nvPr/>
        </p:nvPicPr>
        <p:blipFill>
          <a:blip r:embed="rId1"/>
          <a:stretch/>
        </p:blipFill>
        <p:spPr>
          <a:xfrm>
            <a:off x="1170000" y="2567160"/>
            <a:ext cx="380988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Ravie"/>
              </a:rPr>
              <a:t>Neptunium’s Histo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tencil"/>
              </a:rPr>
              <a:t>Discovered by edwin m. mcmillan and p.h. abelson in 19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tencil"/>
              </a:rPr>
              <a:t>Named after the planet neptu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BD00395_" descr=""/>
          <p:cNvPicPr/>
          <p:nvPr/>
        </p:nvPicPr>
        <p:blipFill>
          <a:blip r:embed="rId1"/>
          <a:stretch/>
        </p:blipFill>
        <p:spPr>
          <a:xfrm>
            <a:off x="5132520" y="2001960"/>
            <a:ext cx="380988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NEPTUNIUM’S ISOTOPES AND ALLITROPIC FORM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3 ALLOTROPIC 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PTUNIUM IS AN ARTIFICAIL ELEMENT AND HAS 8 ISOTO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YWKH7CAHFT0SZCAAB977JCAY1AGQUCAFZQ6B1CA1V47W2CASW69XMCA01JGGUCA3JK1BNCAXKE56BCAZLVL83CAWLC1OCCAIXJKG4CA7ZBU9LCAN1822HCABI8J8ZCADUF7R1CAD69B4UCAJ1EOEVCAQA5NH1" descr=""/>
          <p:cNvPicPr/>
          <p:nvPr/>
        </p:nvPicPr>
        <p:blipFill>
          <a:blip r:embed="rId1"/>
          <a:stretch/>
        </p:blipFill>
        <p:spPr>
          <a:xfrm>
            <a:off x="5132520" y="2590920"/>
            <a:ext cx="380988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13:51:14Z</dcterms:created>
  <dc:creator>202288</dc:creator>
  <dc:description/>
  <dc:language>en-US</dc:language>
  <cp:lastModifiedBy>202288</cp:lastModifiedBy>
  <dcterms:modified xsi:type="dcterms:W3CDTF">2013-01-21T16:55:12Z</dcterms:modified>
  <cp:revision>5</cp:revision>
  <dc:subject/>
  <dc:title>Neptunium</dc:title>
</cp:coreProperties>
</file>