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A69-AA17-4595-B93D-87B5699B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B30-3B2A-49DF-AD8C-8BCFF38D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A83-7179-4B23-B662-D7A8B5F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61A-3730-49D7-A4F3-389459F1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534-08FC-414B-9C7A-A0A55F8E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24D-314B-4D29-9D34-41735C2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1C6-C788-4FDA-B8C9-F558E2E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DDA3-333A-4214-8E00-33C51E6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272-E3BA-4BD2-9233-5CE3E5C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6256-6CD9-4F93-82EE-593FF608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5235-C404-4A71-AA01-C8B8E38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35B-868E-4EA8-9E88-9C78B688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F637-EDA1-431E-B174-781265D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49B-E989-4FF5-832F-D636FEC7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74E7-9F9B-4553-A554-B682771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B35-65D8-4135-AE22-E34916FE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15A6-E12E-4C91-BE63-014DC7C7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C76-FE99-49FF-B33E-50BD03C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88-62AD-426C-86FE-460F4955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8CF-5941-47F0-8157-65DD8D7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07E-26FF-4807-AB75-FB4F397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48E-FD94-4BF0-ACD8-5B5B805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F55-1F71-4D79-A062-21FAF0D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CB4-0394-4B56-A8AB-D0F4D33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CD7-341E-43AB-9D3A-1A6FC8F47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1CE-B362-438C-A9FA-AFE5A2513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Wide Latin"/>
              </a:rPr>
              <a:t>Neptuniu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By: Chris Sanb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INTERESTING STU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sometimes used as a detector for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a by product of pluton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6220_" descr=""/>
          <p:cNvPicPr/>
          <p:nvPr/>
        </p:nvPicPr>
        <p:blipFill>
          <a:blip r:embed="rId1"/>
          <a:stretch/>
        </p:blipFill>
        <p:spPr>
          <a:xfrm>
            <a:off x="1300320" y="194616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THE 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END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, What Is I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Symbol: N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Number: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Mass: 2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#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does not have a group number but its part of the Actinid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at" descr=""/>
          <p:cNvPicPr/>
          <p:nvPr/>
        </p:nvPicPr>
        <p:blipFill>
          <a:blip r:embed="rId1"/>
          <a:stretch/>
        </p:blipFill>
        <p:spPr>
          <a:xfrm>
            <a:off x="5481720" y="194616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Extra Bold"/>
              </a:rPr>
              <a:t>Neptunium Photo Galle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14520" y="1946160"/>
          <a:ext cx="528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46160"/>
                    <a:ext cx="528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        </a:t>
            </a: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NEPTUNIUM ATO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3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oper Black"/>
              </a:rPr>
              <a:t>Neptunium Phys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ting Point: 1179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: 7232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sity: 20.45 g/cm^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color is a slivery metal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neptunium" descr=""/>
          <p:cNvPicPr/>
          <p:nvPr/>
        </p:nvPicPr>
        <p:blipFill>
          <a:blip r:embed="rId1"/>
          <a:stretch/>
        </p:blipFill>
        <p:spPr>
          <a:xfrm>
            <a:off x="5132520" y="2416320"/>
            <a:ext cx="3809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 Chem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’s oxidation number is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Its electronic configuration is [Rn] 5f4 6d1 7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 is extremely radio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images" descr=""/>
          <p:cNvPicPr/>
          <p:nvPr/>
        </p:nvPicPr>
        <p:blipFill>
          <a:blip r:embed="rId1"/>
          <a:stretch/>
        </p:blipFill>
        <p:spPr>
          <a:xfrm>
            <a:off x="1170000" y="216864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Condensed"/>
              </a:rPr>
              <a:t>Neptunium’s Us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Neptunium is a metal, but is uncommonly used because of its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JUMY6CA0E7AI6CAY1P237CAAW4KU3CAVBOWQDCAIYU66MCAVGL7YWCAZC7YFCCA4TOCKXCA5B7NWDCAAZ09DYCA6TML66CA92G69ACAX10HI1CAIBXPLHCAUNQSU7CA5KREW5CAZS6HLZCA38JO15CAZNV5J1" descr=""/>
          <p:cNvPicPr/>
          <p:nvPr/>
        </p:nvPicPr>
        <p:blipFill>
          <a:blip r:embed="rId1"/>
          <a:stretch/>
        </p:blipFill>
        <p:spPr>
          <a:xfrm>
            <a:off x="1170000" y="256716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Neptunium’s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Discovered by edwin m. mcmillan and p.h. abelson in 19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amed after the planet nept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BD00395_" descr=""/>
          <p:cNvPicPr/>
          <p:nvPr/>
        </p:nvPicPr>
        <p:blipFill>
          <a:blip r:embed="rId1"/>
          <a:stretch/>
        </p:blipFill>
        <p:spPr>
          <a:xfrm>
            <a:off x="5132520" y="200196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’S ISOTOPES AND ALLITROPIC FOR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ALLOTROP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PTUNIUM IS AN ARTIFICAIL ELEMENT AND HAS 8 ISOT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YWKH7CAHFT0SZCAAB977JCAY1AGQUCAFZQ6B1CA1V47W2CASW69XMCA01JGGUCA3JK1BNCAXKE56BCAZLVL83CAWLC1OCCAIXJKG4CA7ZBU9LCAN1822HCABI8J8ZCADUF7R1CAD69B4UCAJ1EOEVCAQA5NH1" descr=""/>
          <p:cNvPicPr/>
          <p:nvPr/>
        </p:nvPicPr>
        <p:blipFill>
          <a:blip r:embed="rId1"/>
          <a:stretch/>
        </p:blipFill>
        <p:spPr>
          <a:xfrm>
            <a:off x="5132520" y="259092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1:14Z</dcterms:created>
  <dc:creator>202288</dc:creator>
  <dc:description/>
  <dc:language>en-US</dc:language>
  <cp:lastModifiedBy>202288</cp:lastModifiedBy>
  <dcterms:modified xsi:type="dcterms:W3CDTF">2013-01-21T16:55:12Z</dcterms:modified>
  <cp:revision>5</cp:revision>
  <dc:subject/>
  <dc:title>Neptunium</dc:title>
</cp:coreProperties>
</file>