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7.wmf" ContentType="image/x-wmf"/>
  <Override PartName="/ppt/media/image8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48C1-2170-47AD-9AF0-3BB88722A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1BDF-8452-44C3-BC20-3E54E435C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C148-810C-454D-B8AF-EE74F2677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5449-68A1-4D9B-80BC-01A7E95C0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E29FF-0537-4C4C-B0E6-A92960125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45FB4-45C2-45F1-B948-B5171158A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5A41C-17C2-485F-B459-9C8ABAB77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B9517-CDBE-4F42-A33A-5C1090F9B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8DD36-5AE7-4E1D-B076-70D0F8568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977AB-7AC9-40BC-9EE2-B82A291AF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A5CAF-08C5-455F-A9A2-B1BAA2992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4A94-D5CF-4941-8E7E-41D818298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ED6E8-32A9-4C32-963B-FC77457F9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51C74-D73A-435B-AD9D-A96095876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110E8-CC9E-434E-942D-11AEECE10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B8EFF-985E-457B-8207-FDDD2D678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DAD16-7CB9-45D7-81F3-E3A161F27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2AB9-2C51-4193-B0A8-461E8414E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C7E4-5ADA-4C92-AE5F-63B977F4A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EF87-9D94-4590-A7B3-5C8F42005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F1A4-CB8B-401F-9E7D-EFF1F2869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E76B-B8AF-4BE1-8C44-B56DE53AC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143D-AE1D-4487-A69A-E02C0867B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A0B5-A4EA-4EFF-B6F1-93D64D4AC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E6232-7A3E-4A5C-8F2D-643CD49527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AF585-CBFF-4691-883F-C6406A833E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Wide Latin"/>
              </a:rPr>
              <a:t>Neptunium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Wide Latin"/>
              </a:rPr>
              <a:t>By: Chris Sanbow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Ravie"/>
              </a:rPr>
              <a:t>INTERESTING STUFF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132160" y="19461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Perpetua Titling MT"/>
              </a:rPr>
              <a:t>.Neptunium is sometimes used as a detector for neutr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Perpetua Titling MT"/>
              </a:rPr>
              <a:t>.Neptunium is a by product of plutonium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3" name="BD06220_" descr=""/>
          <p:cNvPicPr/>
          <p:nvPr/>
        </p:nvPicPr>
        <p:blipFill>
          <a:blip r:embed="rId1"/>
          <a:stretch/>
        </p:blipFill>
        <p:spPr>
          <a:xfrm>
            <a:off x="1300320" y="1946160"/>
            <a:ext cx="3549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ffff"/>
                </a:solidFill>
                <a:latin typeface="Wide Latin"/>
              </a:rPr>
              <a:t>	</a:t>
            </a:r>
            <a:r>
              <a:rPr b="0" lang="en-US" sz="9600" spc="-1" strike="noStrike">
                <a:solidFill>
                  <a:srgbClr val="00ffff"/>
                </a:solidFill>
                <a:latin typeface="Wide Latin"/>
              </a:rPr>
              <a:t>THE </a:t>
            </a:r>
            <a:r>
              <a:rPr b="0" lang="en-US" sz="9600" spc="-1" strike="noStrike">
                <a:solidFill>
                  <a:srgbClr val="00ffff"/>
                </a:solidFill>
                <a:latin typeface="Wide Latin"/>
              </a:rPr>
              <a:t>	</a:t>
            </a:r>
            <a:r>
              <a:rPr b="0" lang="en-US" sz="9600" spc="-1" strike="noStrike">
                <a:solidFill>
                  <a:srgbClr val="00ffff"/>
                </a:solidFill>
                <a:latin typeface="Wide Latin"/>
              </a:rPr>
              <a:t>END</a:t>
            </a:r>
            <a:endParaRPr b="0" lang="en-US" sz="96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Neptunium, What Is It?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69640" y="19461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tomic Symbol: N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tomic Number: 9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tomic Mass: 237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riod # 7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ptunium does not have a group number but its part of the Actinide fami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0" name="cat" descr=""/>
          <p:cNvPicPr/>
          <p:nvPr/>
        </p:nvPicPr>
        <p:blipFill>
          <a:blip r:embed="rId1"/>
          <a:stretch/>
        </p:blipFill>
        <p:spPr>
          <a:xfrm>
            <a:off x="5481720" y="1946160"/>
            <a:ext cx="31114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Rockwell Extra Bold"/>
              </a:rPr>
              <a:t>Neptunium Photo Gallery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2414520" y="1946160"/>
          <a:ext cx="52833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14520" y="1946160"/>
                    <a:ext cx="52833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ff"/>
                </a:solidFill>
                <a:latin typeface="Playbill"/>
              </a:rPr>
              <a:t>        </a:t>
            </a:r>
            <a:r>
              <a:rPr b="0" lang="en-US" sz="5400" spc="-1" strike="noStrike">
                <a:solidFill>
                  <a:srgbClr val="00ffff"/>
                </a:solidFill>
                <a:latin typeface="Playbill"/>
              </a:rPr>
              <a:t>NEPTUNIUM ATOM</a:t>
            </a:r>
            <a:endParaRPr b="0" lang="en-US" sz="5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2438280" y="1981080"/>
            <a:ext cx="4357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Cooper Black"/>
              </a:rPr>
              <a:t>Neptunium Physical Propertie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69640" y="19461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lting Point: 1179 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oiling Point: 7232 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nsity: 20.45 g/cm^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ptunium color is a slivery metall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8" name="neptunium" descr=""/>
          <p:cNvPicPr/>
          <p:nvPr/>
        </p:nvPicPr>
        <p:blipFill>
          <a:blip r:embed="rId1"/>
          <a:stretch/>
        </p:blipFill>
        <p:spPr>
          <a:xfrm>
            <a:off x="5132520" y="2416320"/>
            <a:ext cx="3809880" cy="31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Neptunium Chemical Propertie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132160" y="19461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nap ITC"/>
              </a:rPr>
              <a:t>Neptunium’s oxidation number is 7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nap ITC"/>
              </a:rPr>
              <a:t>Its electronic configuration is [Rn] 5f4 6d1 7s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nap ITC"/>
              </a:rPr>
              <a:t>Neptunium is extremely radioact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1" name="images" descr=""/>
          <p:cNvPicPr/>
          <p:nvPr/>
        </p:nvPicPr>
        <p:blipFill>
          <a:blip r:embed="rId1"/>
          <a:stretch/>
        </p:blipFill>
        <p:spPr>
          <a:xfrm>
            <a:off x="1170000" y="2168640"/>
            <a:ext cx="3809880" cy="36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Rockwell Condensed"/>
              </a:rPr>
              <a:t>Neptunium’s Uses 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132160" y="19461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stellar"/>
              </a:rPr>
              <a:t>Neptunium is a metal, but is uncommonly used because of its radioactiv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4" name="JUMY6CA0E7AI6CAY1P237CAAW4KU3CAVBOWQDCAIYU66MCAVGL7YWCAZC7YFCCA4TOCKXCA5B7NWDCAAZ09DYCA6TML66CA92G69ACAX10HI1CAIBXPLHCAUNQSU7CA5KREW5CAZS6HLZCA38JO15CAZNV5J1" descr=""/>
          <p:cNvPicPr/>
          <p:nvPr/>
        </p:nvPicPr>
        <p:blipFill>
          <a:blip r:embed="rId1"/>
          <a:stretch/>
        </p:blipFill>
        <p:spPr>
          <a:xfrm>
            <a:off x="1170000" y="2567160"/>
            <a:ext cx="3809880" cy="28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Ravie"/>
              </a:rPr>
              <a:t>Neptunium’s History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69640" y="19461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tencil"/>
              </a:rPr>
              <a:t>Discovered by edwin m. mcmillan and p.h. abelson in 194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tencil"/>
              </a:rPr>
              <a:t>Named after the planet neptu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7" name="BD00395_" descr=""/>
          <p:cNvPicPr/>
          <p:nvPr/>
        </p:nvPicPr>
        <p:blipFill>
          <a:blip r:embed="rId1"/>
          <a:stretch/>
        </p:blipFill>
        <p:spPr>
          <a:xfrm>
            <a:off x="5132520" y="2001960"/>
            <a:ext cx="3809880" cy="40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NEPTUNIUM’S ISOTOPES AND ALLITROPIC FORM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69640" y="19461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3 ALLOTROPIC FOR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NEPTUNIUM IS AN ARTIFICAIL ELEMENT AND HAS 8 ISOTOP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0" name="YWKH7CAHFT0SZCAAB977JCAY1AGQUCAFZQ6B1CA1V47W2CASW69XMCA01JGGUCA3JK1BNCAXKE56BCAZLVL83CAWLC1OCCAIXJKG4CA7ZBU9LCAN1822HCABI8J8ZCADUF7R1CAD69B4UCAJ1EOEVCAQA5NH1" descr=""/>
          <p:cNvPicPr/>
          <p:nvPr/>
        </p:nvPicPr>
        <p:blipFill>
          <a:blip r:embed="rId1"/>
          <a:stretch/>
        </p:blipFill>
        <p:spPr>
          <a:xfrm>
            <a:off x="5132520" y="2590920"/>
            <a:ext cx="3809880" cy="28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5T13:51:14Z</dcterms:created>
  <dc:creator>202288</dc:creator>
  <dc:description/>
  <dc:language>en-US</dc:language>
  <cp:lastModifiedBy>202288</cp:lastModifiedBy>
  <dcterms:modified xsi:type="dcterms:W3CDTF">2013-01-21T16:55:12Z</dcterms:modified>
  <cp:revision>5</cp:revision>
  <dc:subject/>
  <dc:title>Neptunium</dc:title>
</cp:coreProperties>
</file>