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2DA-0ECD-4310-A9FF-5599B853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C75-AC9C-4B1C-A161-E09A7E5E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54C-D1E0-46A1-B55C-106E464A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307-119D-430F-8783-5EFA21DF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8608-88B5-44F1-A15C-D7791B83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1088-A18F-4273-BCF9-FA34CFD8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A486-3EA6-4792-A43C-B1FC354B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FB86-C5AC-46C7-8BB5-E0742BDA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D95A-6B31-4822-B068-0E62740E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D73D-4EDA-435B-81D4-AA9E7CF5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8995-D313-428A-9178-5604D344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6E3-5274-409E-9F65-C97BA230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2D6C-EAC7-4317-9385-F64A9C36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8A94-298C-4FFE-95AB-E2F59EE3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00BA-A0E6-4D30-99FB-E779125A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EE2C-ABE3-4C9E-BCE4-D97005DE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60A1-BB29-4E26-A626-D10B4A88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DBF-CACD-4554-8FE7-3E62531E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A39-7F95-42C7-82E7-C46B5316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5B3-0298-40B0-9C79-374EE0A8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5D0-836B-44A8-B389-D9CA3501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B17-7DCF-476C-9524-C69176F9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1EB-7C25-474D-B7E1-3F8642B6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156-4436-4E8D-ACAD-F301E7EC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0C2A-ED83-425E-BE04-D8EDDC2A11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6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0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E88C-6633-424D-A88B-A5FE92A2BEA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ebelements.com/_media/elements/element_pictures/Cl.jpg&amp;imgrefurl=http://www.webelements.com/chlorine/&amp;usg=__BYUtPY8LiSk_oyLk09YPz5IW3Y8=&amp;h=320&amp;w=320&amp;sz=13&amp;hl=en&amp;start=1&amp;zoom=1&amp;tbnid=Q_qNaQy27wYsIM:&amp;tbnh=118&amp;tbnw=118&amp;ei=CnwJUanXJono8gS4zIHIDg&amp;prev=/search%3Fq%3Dchlorine%26hl%3Den%26safe%3Dactive%26gbv%3D2%26tbm%3Disch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Power Point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 Joshua Dav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esting fact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second lightest halogen after flu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has the highest electron affin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third has the third highest electron gra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Infor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5.453 AM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ctures of Chlorin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029" descr="http://t1.gstatic.com/images?q=tbn:ANd9GcTWurkICuQIZwwSawAvtuzwTyFzEEPhIEw8g4je50ymV7PhEq3fa1Um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80972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D Picture Of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http://t2.gstatic.com/images?q=tbn:ANd9GcQgKcHQhWeEHWRYXp2yjGiTDY04abnLwK5AJCHVEV1LduTi2MAI95Maf6Y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Propertie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lting Point 101.5 Degrees Celsiu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iling Point 34.04 Degrees Cels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or Yellowish Gr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ification  Non Metallo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Properti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und state electrons configuration [Ne].3s².3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ell Structure 2.8.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roximately 2 million jobs in Europe are related to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8% of Western Europe’s drinking water is made safe with the help of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discovered in 1774 by Swedish chemist named Carl William Schee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ele discovered it by heating manganese dioxide and hydrochloric aci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not Classified as an element until 18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t Compou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ates: Compounds of metals with the anion   an example of a chlorate is potassium chlo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8:03:58Z</dcterms:created>
  <dc:creator>201982</dc:creator>
  <dc:description/>
  <dc:language>en-US</dc:language>
  <cp:lastModifiedBy>201982</cp:lastModifiedBy>
  <dcterms:modified xsi:type="dcterms:W3CDTF">2013-02-01T17:43:04Z</dcterms:modified>
  <cp:revision>11</cp:revision>
  <dc:subject/>
  <dc:title>Element Power Point  </dc:title>
</cp:coreProperties>
</file>