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FF9-4084-4F84-A5D4-C1C1E939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9B9-776C-44F8-9AA6-A35541E3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3E0-6BF7-4E34-A1F3-69B3E21A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C60-0FE0-4957-97F8-D375F1B7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E675-AE3F-447F-9869-E1D7929E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637F-9F70-4EE8-93AB-A4C075AB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7559-48D7-4133-AD77-ED82D22F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A269-F37A-4C09-90E2-7E4643B8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EFD9-9E71-4945-A258-8FA43D7F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640D-F17F-4F93-8F5B-CAA17E0C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E004-2CE4-464B-88AA-85B92126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D4BE-2705-48E4-85E6-D1007A22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9499-4E9A-44C6-93B4-1BFB5723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9B98-0961-46A3-B063-97A96EB6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807F-64A1-4940-A6A3-8D416A8E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D3E7-2E0D-4664-82E6-DFBADC7C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677E-E8D5-44A3-A239-69A68923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012-906A-4B0A-8BE1-22445701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703-5C35-441A-B322-FAEACDAF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A364-508E-4BCF-A639-1AE6AECA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5D2-5A15-4B40-87AC-D97D939E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203-1568-4C09-AE31-0C46FDCC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407-D851-4F49-8ADD-9AC580B2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39C-628F-46A1-BE1A-2C7B9653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301E-E831-4A1B-A9F7-35B9D1DE56E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6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0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6874-297C-4FF3-837F-FEB167FA5B6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ebelements.com/_media/elements/element_pictures/Cl.jpg&amp;imgrefurl=http://www.webelements.com/chlorine/&amp;usg=__BYUtPY8LiSk_oyLk09YPz5IW3Y8=&amp;h=320&amp;w=320&amp;sz=13&amp;hl=en&amp;start=1&amp;zoom=1&amp;tbnid=Q_qNaQy27wYsIM:&amp;tbnh=118&amp;tbnw=118&amp;ei=CnwJUanXJono8gS4zIHIDg&amp;prev=/search%3Fq%3Dchlorine%26hl%3Den%26safe%3Dactive%26gbv%3D2%26tbm%3Disch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ment Power Point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y Joshua Dav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esting fact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is the second lightest halogen after flu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has the highest electron affin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is the third has the third highest electron gra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ment Infor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5.453 AM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ictures of Chlorin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029" descr="http://t1.gstatic.com/images?q=tbn:ANd9GcTWurkICuQIZwwSawAvtuzwTyFzEEPhIEw8g4je50ymV7PhEq3fa1Um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80972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D Picture Of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http://t2.gstatic.com/images?q=tbn:ANd9GcQgKcHQhWeEHWRYXp2yjGiTDY04abnLwK5AJCHVEV1LduTi2MAI95Maf6Y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Propertie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lting Point 101.5 Degrees Celsiu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iling Point 34.04 Degrees Cels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or Yellowish Gr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ification  Non Metallo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Properti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und state electrons configuration [Ne].3s².3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ell Structure 2.8.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roximately 2 million jobs in Europe are related to 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8% of Western Europe’s drinking water is made safe with the help of 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was discovered in 1774 by Swedish chemist named Carl William Schee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eele discovered it by heating manganese dioxide and hydrochloric aci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was not Classified as an element until 18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ortant Compou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ates: Compounds of metals with the anion   an example of a chlorate is potassium chlor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8:03:58Z</dcterms:created>
  <dc:creator>201982</dc:creator>
  <dc:description/>
  <dc:language>en-US</dc:language>
  <cp:lastModifiedBy>201982</cp:lastModifiedBy>
  <dcterms:modified xsi:type="dcterms:W3CDTF">2013-02-01T17:43:04Z</dcterms:modified>
  <cp:revision>11</cp:revision>
  <dc:subject/>
  <dc:title>Element Power Point  </dc:title>
</cp:coreProperties>
</file>