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5EA-D764-43D3-ADB5-FAB0E1F9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666-A739-440F-BCA5-8DB6DFAC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243-41F8-4807-B5D6-1047629F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3CE-B70A-40C6-BACA-F88650EB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4AEE-FDBB-4CF2-ABF1-ED36E299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223-5A0E-49A8-A5AB-6EBA0DD3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190B-652B-41DA-A459-48DC8B5A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454A-1F61-4552-A5B2-76226395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02FC-F242-49D3-88A5-2BA3AEA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DDA-AC29-45E1-931D-09607522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8ACF-1B4B-4579-B608-8F48DFD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6C4-4EF9-4AF4-A76B-81ACBA48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235-7C6E-49F0-9D47-DDB21C6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DA8A-8FEE-48C2-9984-A0AF5EC5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BF7B-AAC2-40D1-ACC2-5C742CD7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869E-2EA5-49D8-B0DC-13C6EB0C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3ED4-AFF7-4092-94A8-F0F8307D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601-65B9-4225-A6C9-E2BF5D4E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29B-6040-4ED6-A3DA-CF2156C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600-949E-474F-9DB4-9FBD7CC9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1BC-B19B-46BD-8174-EAF9AD4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F9C-6340-4643-9724-53EFBAB7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911-9EF0-40E9-B5D3-60FE7FB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609-1610-4D15-A44C-8F95891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9D1-55EE-4C21-A7EC-E22702C405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6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0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6C9-0F90-4A04-B8B4-F6A6DAD2031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ebelements.com/_media/elements/element_pictures/Cl.jpg&amp;imgrefurl=http://www.webelements.com/chlorine/&amp;usg=__BYUtPY8LiSk_oyLk09YPz5IW3Y8=&amp;h=320&amp;w=320&amp;sz=13&amp;hl=en&amp;start=1&amp;zoom=1&amp;tbnid=Q_qNaQy27wYsIM:&amp;tbnh=118&amp;tbnw=118&amp;ei=CnwJUanXJono8gS4zIHIDg&amp;prev=/search%3Fq%3Dchlorine%26hl%3Den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Power Poin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Joshua Dav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fac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second lightest halogen after flu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has the highest electron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third has the third highest electron gra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.453 AM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ctures of Chlorin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029" descr="http://t1.gstatic.com/images?q=tbn:ANd9GcTWurkICuQIZwwSawAvtuzwTyFzEEPhIEw8g4je50ymV7PhEq3fa1Um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0972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Picture Of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2.gstatic.com/images?q=tbn:ANd9GcQgKcHQhWeEHWRYXp2yjGiTDY04abnLwK5AJCHVEV1LduTi2MAI95Maf6Y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Propertie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lting Point 101.5 Degrees Celsiu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ing Point 34.04 Degrees Cels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or Yellowish Gr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ification  Non Metallo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nd state electrons configuration [Ne].3s².3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l Structure 2.8.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ly 2 million jobs in Europe are related to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8% of Western Europe’s drinking water is made safe with the help of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discovered in 1774 by Swedish chemist named Carl William Schee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ele discovered it by heating manganese dioxide and hydrochloric aci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not Classified as an element until 18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t Compou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ates: Compounds of metals with the anion   an example of a chlorate is potassium chlo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8:03:58Z</dcterms:created>
  <dc:creator>201982</dc:creator>
  <dc:description/>
  <dc:language>en-US</dc:language>
  <cp:lastModifiedBy>201982</cp:lastModifiedBy>
  <dcterms:modified xsi:type="dcterms:W3CDTF">2013-02-01T17:43:04Z</dcterms:modified>
  <cp:revision>11</cp:revision>
  <dc:subject/>
  <dc:title>Element Power Point  </dc:title>
</cp:coreProperties>
</file>