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241C-1C06-4F08-97A3-54958DF9D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F01B-5783-4287-9D21-31F1805A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B525-E91F-4F4E-964B-348269096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C358-C82D-44FB-A71F-F4635A599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9CEFE-57D0-4FDC-8BE1-3EEAEA3DB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98B01-1F63-4388-95DA-CF9C27198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EDBBA-1E9F-474C-9238-7A5E43F96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24EA9-A8EE-4939-8286-90B790A77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AC3C7-0643-4E51-A3CE-BC81380F0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2AD64-1760-4AAC-8D36-D57968DDF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FA699-FE01-4634-94CF-09EDB3DB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6E79-FC5F-4306-8890-0D6352792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5CBFA-5E07-4112-90E9-F0143B88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C1EC3-B9E1-426D-BD7D-8DFC0196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0CD9F-299D-438A-B886-A0CEFAE29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62507-B594-40A9-AC82-981EA1C98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CDAD1-C0BE-4FA7-B94E-42F794E1E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A8A1-6CE8-45A7-9E82-9C4CA35F0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50D7-7B7D-4B1D-AD28-63AEECEC7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11DF-5F90-45DB-B6AD-5C9B0E971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7999-1B30-4A3B-AB39-9D4AB9E2D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18E2-7399-4FBC-AB56-EC479418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AE8E-ECA3-4C80-BED2-CF7C6E28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3152-CBEB-4FE5-BE51-29618750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5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12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7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Oval 8"/>
              <p:cNvSpPr/>
              <p:nvPr/>
            </p:nvSpPr>
            <p:spPr>
              <a:xfrm>
                <a:off x="418320" y="420120"/>
                <a:ext cx="42667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Oval 9"/>
              <p:cNvSpPr/>
              <p:nvPr/>
            </p:nvSpPr>
            <p:spPr>
              <a:xfrm>
                <a:off x="837000" y="840600"/>
                <a:ext cx="3431160" cy="3193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Oval 10"/>
              <p:cNvSpPr/>
              <p:nvPr/>
            </p:nvSpPr>
            <p:spPr>
              <a:xfrm>
                <a:off x="1255320" y="1261080"/>
                <a:ext cx="2594520" cy="23558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Oval 11"/>
              <p:cNvSpPr/>
              <p:nvPr/>
            </p:nvSpPr>
            <p:spPr>
              <a:xfrm>
                <a:off x="1590120" y="1597680"/>
                <a:ext cx="1923120" cy="16830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13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4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Oval 15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Oval 16"/>
              <p:cNvSpPr/>
              <p:nvPr/>
            </p:nvSpPr>
            <p:spPr>
              <a:xfrm>
                <a:off x="3837240" y="3830760"/>
                <a:ext cx="2612880" cy="23972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Oval 17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Oval 18"/>
              <p:cNvSpPr/>
              <p:nvPr/>
            </p:nvSpPr>
            <p:spPr>
              <a:xfrm>
                <a:off x="4409280" y="4398480"/>
                <a:ext cx="1466640" cy="12596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9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20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Oval 21"/>
              <p:cNvSpPr/>
              <p:nvPr/>
            </p:nvSpPr>
            <p:spPr>
              <a:xfrm>
                <a:off x="4851360" y="506880"/>
                <a:ext cx="363276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Oval 22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Oval 23"/>
              <p:cNvSpPr/>
              <p:nvPr/>
            </p:nvSpPr>
            <p:spPr>
              <a:xfrm>
                <a:off x="5563440" y="1216080"/>
                <a:ext cx="2207160" cy="1987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Oval 24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72544-08BE-4D42-B064-0FB6067C45A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9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26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30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4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5"/>
                <p:cNvSpPr/>
                <p:nvPr/>
              </p:nvSpPr>
              <p:spPr>
                <a:xfrm>
                  <a:off x="418320" y="420120"/>
                  <a:ext cx="42667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Oval 6"/>
                <p:cNvSpPr/>
                <p:nvPr/>
              </p:nvSpPr>
              <p:spPr>
                <a:xfrm>
                  <a:off x="837000" y="840600"/>
                  <a:ext cx="3431160" cy="3193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Oval 7"/>
                <p:cNvSpPr/>
                <p:nvPr/>
              </p:nvSpPr>
              <p:spPr>
                <a:xfrm>
                  <a:off x="1255320" y="1261080"/>
                  <a:ext cx="2594520" cy="23558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Oval 8"/>
                <p:cNvSpPr/>
                <p:nvPr/>
              </p:nvSpPr>
              <p:spPr>
                <a:xfrm>
                  <a:off x="1590120" y="1597680"/>
                  <a:ext cx="1923120" cy="16830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9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0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Oval 11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Oval 12"/>
                <p:cNvSpPr/>
                <p:nvPr/>
              </p:nvSpPr>
              <p:spPr>
                <a:xfrm>
                  <a:off x="3837240" y="3830760"/>
                  <a:ext cx="2612880" cy="2397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Oval 13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Oval 14"/>
                <p:cNvSpPr/>
                <p:nvPr/>
              </p:nvSpPr>
              <p:spPr>
                <a:xfrm>
                  <a:off x="4409280" y="4398480"/>
                  <a:ext cx="1466640" cy="12596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15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6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17"/>
                <p:cNvSpPr/>
                <p:nvPr/>
              </p:nvSpPr>
              <p:spPr>
                <a:xfrm>
                  <a:off x="4851360" y="506880"/>
                  <a:ext cx="363276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18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Oval 19"/>
                <p:cNvSpPr/>
                <p:nvPr/>
              </p:nvSpPr>
              <p:spPr>
                <a:xfrm>
                  <a:off x="5563440" y="1216080"/>
                  <a:ext cx="2207160" cy="1987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Oval 20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Line 26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" name="Line 27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" name="Line 28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155FC-2D3A-4DAE-A5C3-0C19F62F255F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webelements.com/_media/elements/element_pictures/Cl.jpg&amp;imgrefurl=http://www.webelements.com/chlorine/&amp;usg=__BYUtPY8LiSk_oyLk09YPz5IW3Y8=&amp;h=320&amp;w=320&amp;sz=13&amp;hl=en&amp;start=1&amp;zoom=1&amp;tbnid=Q_qNaQy27wYsIM:&amp;tbnh=118&amp;tbnw=118&amp;ei=CnwJUanXJono8gS4zIHIDg&amp;prev=/search%3Fq%3Dchlorine%26hl%3Den%26safe%3Dactive%26gbv%3D2%26tbm%3Disch&amp;itbs=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lement Power Point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y Joshua Davi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teresting fact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lorine is the second lightest halogen after fluorin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lorine has the highest electron affin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lorine is the third has the third highest electron grav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lement Inform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lorin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7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35.453 AM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7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ictures of Chlorine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1029" descr="http://t1.gstatic.com/images?q=tbn:ANd9GcTWurkICuQIZwwSawAvtuzwTyFzEEPhIEw8g4je50ymV7PhEq3fa1UmL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1809720"/>
            <a:ext cx="72388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D Picture Of Atom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2" descr="http://t2.gstatic.com/images?q=tbn:ANd9GcQgKcHQhWeEHWRYXp2yjGiTDY04abnLwK5AJCHVEV1LduTi2MAI95Maf6Y"/>
          <p:cNvPicPr/>
          <p:nvPr/>
        </p:nvPicPr>
        <p:blipFill>
          <a:blip r:embed="rId1"/>
          <a:stretch/>
        </p:blipFill>
        <p:spPr>
          <a:xfrm>
            <a:off x="304920" y="1523880"/>
            <a:ext cx="85341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hysical Properties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elting Point 101.5 Degrees Celsius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oiling Point 34.04 Degrees Celsiu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lor Yellowish Gree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assification  Non Metalloi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emical Propertie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round state electrons configuration [Ne].3s².3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hell Structure 2.8.7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e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pproximately 2 million jobs in Europe are related to chlorin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98% of Western Europe’s drinking water is made safe with the help of chlorin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istory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lorine was discovered in 1774 by Swedish chemist named Carl William Scheel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cheele discovered it by heating manganese dioxide and hydrochloric acid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lorine was not Classified as an element until 181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mportant Compoun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lorates: Compounds of metals with the anion   an example of a chlorate is potassium chlorat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4T18:03:58Z</dcterms:created>
  <dc:creator>201982</dc:creator>
  <dc:description/>
  <dc:language>en-US</dc:language>
  <cp:lastModifiedBy>201982</cp:lastModifiedBy>
  <dcterms:modified xsi:type="dcterms:W3CDTF">2013-02-01T17:43:04Z</dcterms:modified>
  <cp:revision>11</cp:revision>
  <dc:subject/>
  <dc:title>Element Power Point  </dc:title>
</cp:coreProperties>
</file>