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A1C8-2DF5-4426-A991-5049F0BE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9E3A-37D5-4AD0-B935-DA126C98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156-7957-4786-BFD9-A94A3643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6DC-D22E-4492-8247-D41400E1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2CD5-76D3-47A8-A060-347CA3EC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2405-D2C5-4A1F-978F-7EAB2F4F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63C4-96EA-44A5-BE7B-5DC786E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5AFE-D03A-4A44-9CB6-2BC21CD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DD20-F04A-47E8-A7CE-20E4FBC1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21D7-B42B-4F7C-8E06-2FA381BB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32B-14FE-42F9-AE29-3B9E0A14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7CB-4030-4B3E-A1CA-43676DB6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56F0-234B-4DA2-9A03-71B84D66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7794-FE1C-4DE5-826A-DBCCC9E9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4E99-74F8-4E7B-ACBE-F81E58B5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4ECA-5B29-4CE4-A216-61D2697F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535CF-E697-4A34-879C-9A315347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5CD-CD2C-4409-AFD3-B4677F3B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A58-73DC-4E8D-B56C-0CF874EC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26C-0823-4546-8CFC-014529A5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709-1F76-4130-85FC-9BF34A1E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6BA-9855-49D5-ACCE-591F691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801-2ABC-4F6E-955A-4250BDB2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779-1FAA-4474-A6F3-636DD68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9ED1-8C36-44CE-AF06-075AEB99D4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6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0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CE96-0901-4429-95FE-77C7483EEA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webelements.com/_media/elements/element_pictures/Cl.jpg&amp;imgrefurl=http://www.webelements.com/chlorine/&amp;usg=__BYUtPY8LiSk_oyLk09YPz5IW3Y8=&amp;h=320&amp;w=320&amp;sz=13&amp;hl=en&amp;start=1&amp;zoom=1&amp;tbnid=Q_qNaQy27wYsIM:&amp;tbnh=118&amp;tbnw=118&amp;ei=CnwJUanXJono8gS4zIHIDg&amp;prev=/search%3Fq%3Dchlorine%26hl%3Den%26safe%3Dactive%26gbv%3D2%26tbm%3Disch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Power Point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Joshua Dav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esting fact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second lightest halogen after flu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has the highest electron affin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is the third has the third highest electron grav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lement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5.453 AM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ictures of Chlorin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1029" descr="http://t1.gstatic.com/images?q=tbn:ANd9GcTWurkICuQIZwwSawAvtuzwTyFzEEPhIEw8g4je50ymV7PhEq3fa1Um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80972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D Picture Of Atom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http://t2.gstatic.com/images?q=tbn:ANd9GcQgKcHQhWeEHWRYXp2yjGiTDY04abnLwK5AJCHVEV1LduTi2MAI95Maf6Y"/>
          <p:cNvPicPr/>
          <p:nvPr/>
        </p:nvPicPr>
        <p:blipFill>
          <a:blip r:embed="rId1"/>
          <a:stretch/>
        </p:blipFill>
        <p:spPr>
          <a:xfrm>
            <a:off x="304920" y="1523880"/>
            <a:ext cx="8534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ysical Propertie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lting Point 101.5 Degrees Celsiu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iling Point 34.04 Degrees Cels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lor Yellowish Gre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ssification  Non Metalloi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emical Properti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round state electrons configuration [Ne].3s².3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ell Structure 2.8.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roximately 2 million jobs in Europe are related to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8% of Western Europe’s drinking water is made safe with the help of chlor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discovered in 1774 by Swedish chemist named Carl William Schee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eele discovered it by heating manganese dioxide and hydrochloric aci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ine was not Classified as an element until 181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mportant Compou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lorates: Compounds of metals with the anion   an example of a chlorate is potassium chlo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18:03:58Z</dcterms:created>
  <dc:creator>201982</dc:creator>
  <dc:description/>
  <dc:language>en-US</dc:language>
  <cp:lastModifiedBy>201982</cp:lastModifiedBy>
  <dcterms:modified xsi:type="dcterms:W3CDTF">2013-02-01T17:43:04Z</dcterms:modified>
  <cp:revision>11</cp:revision>
  <dc:subject/>
  <dc:title>Element Power Point  </dc:title>
</cp:coreProperties>
</file>