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F46C-C81D-462D-8629-5129E6820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BA13-454C-4245-8D6A-FCCB19E9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EE7E-02F0-43D4-BE4A-BC4FA119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BA68-CFEB-4543-B350-C6655341B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AF19-8431-4D1C-BDD3-D059E4B9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E3E2-7082-4A58-901F-C461E972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8CB9-32F7-4C0A-9D4A-417ED144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84D9-21FB-4F42-8F68-B53DBF22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5250-BCC8-4EF3-A497-89724B7B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140B-1336-468D-AA4F-E1991A9C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6F27-A376-4B86-9A21-F7840259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BCF7-30FF-4AD8-AFD4-9ED9054B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5103-C359-4C8F-935A-34776F4AC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Chromiu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llin  Clingerm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nteresting Fac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inheri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inherit"/>
              </a:rPr>
              <a:t>Chromium has atomic number 24. It is the first element in Group 6 on the Periodic Tab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inheri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inherit"/>
              </a:rPr>
              <a:t>Chromium is a hard, lustrous, steel-gray me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33"/>
              </a:buClr>
              <a:buFont typeface="inheri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inherit"/>
              </a:rPr>
              <a:t>Stainless Steel is hard and resists corrosion due to the addition of chrom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228600"/>
            <a:ext cx="891540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eriodic Table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hrom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ymbol  : 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tomic Number : 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tomic Mass : 51.996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eriod Number : 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roup Number : 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icture  Of  Element Chrom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chromium" descr=""/>
          <p:cNvPicPr/>
          <p:nvPr/>
        </p:nvPicPr>
        <p:blipFill>
          <a:blip r:embed="rId1"/>
          <a:stretch/>
        </p:blipFill>
        <p:spPr>
          <a:xfrm>
            <a:off x="2133720" y="1143000"/>
            <a:ext cx="491940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65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808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Picture Of Atom Of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46080" y="-2232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1760" y="873000"/>
            <a:ext cx="15796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95760" rIns="4294895760" tIns="-4294900080" bIns="-42949000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080" y="0"/>
            <a:ext cx="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t">
            <a:spAutoFit/>
          </a:bodyPr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080" y="23760"/>
            <a:ext cx="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images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50496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hysical Properti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6934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lting Point: 2180 [or 1907 °C (3465 °F)] 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iling Point : 2944 [or 2671 °C (4840 °F)] 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quid Range : 764  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3276720"/>
            <a:ext cx="8610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2973240"/>
            <a:ext cx="8610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973240"/>
            <a:ext cx="8610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2973240"/>
            <a:ext cx="8610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2820960"/>
            <a:ext cx="8610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46280" y="1486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mical Properti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hromium is unstable in oxygen, it immediately produces a thin oxide layer that is impermeable to oxygen and protects the metal below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419112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does not tarnish in air, when heated it borns and forms the green chromic oxid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 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Uses Of Chrom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gnetic tape (used in audio cassettes and high-class audio tapes) is made from a magnetic compound of chromium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42900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inless steel, used in many applications, is made when chromium is added to iron. Some people might use stainless steel knives in the kitchen!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Chrom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Chromium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 was discovered by Louis-Nicholas Vauquelin at 1797 in France. Origin from the Greek word "</a:t>
            </a:r>
            <a:r>
              <a:rPr b="0" i="1" lang="en-US" sz="2800" spc="-1" strike="noStrike">
                <a:solidFill>
                  <a:srgbClr val="000000"/>
                </a:solidFill>
                <a:latin typeface="Helvetica Neue"/>
              </a:rPr>
              <a:t>chroma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" meaning "</a:t>
            </a:r>
            <a:r>
              <a:rPr b="0" i="1" lang="en-US" sz="2800" spc="-1" strike="noStrike">
                <a:solidFill>
                  <a:srgbClr val="000000"/>
                </a:solidFill>
                <a:latin typeface="Helvetica Neue"/>
              </a:rPr>
              <a:t>colour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", named for the many coloured compounds known for chromium</a:t>
            </a:r>
            <a:r>
              <a:rPr b="0" lang="en-US" sz="2800" spc="-1" strike="noStrike">
                <a:solidFill>
                  <a:srgbClr val="66ccff"/>
                </a:solidFill>
                <a:latin typeface="Helvetica Neue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Isot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hromium has four isotopes which consist of   50Cr , 52Cr , 53Cr , 54Cr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14:39:47Z</dcterms:created>
  <dc:creator>200804</dc:creator>
  <dc:description/>
  <dc:language>en-US</dc:language>
  <cp:lastModifiedBy>THE BRALLIERS</cp:lastModifiedBy>
  <dcterms:modified xsi:type="dcterms:W3CDTF">2013-02-01T01:12:48Z</dcterms:modified>
  <cp:revision>5</cp:revision>
  <dc:subject/>
  <dc:title>Chromium</dc:title>
</cp:coreProperties>
</file>