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A2C4-8C30-434B-8F61-1C320CE0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C39A-EC6A-43CA-A9C6-3AA1C38A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5307-184B-4F2B-B907-361BD42B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7BE-2024-4121-88A5-FB69D500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4F3-F1BC-47DA-839A-CD98CA95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53C-FA26-4AC8-B9DC-3E76E750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084-B296-4864-8871-9613B7AD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EDD3-BD20-42DE-9605-9A876DBA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9EA2-A37E-4CD3-A79F-D378EF5D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5D6-1FD3-4DA1-BBDD-3C4C63F8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969-5704-4DEE-946F-BBA2C8BE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3AA-F33F-41D4-9CF6-E0DFC62D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46C6-3706-4886-95F5-495C1F06D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Chromiu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lin  Clinge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teresting Fac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inher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inherit"/>
              </a:rPr>
              <a:t>Chromium has atomic number 24. It is the first element in Group 6 on the Periodic T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inher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inherit"/>
              </a:rPr>
              <a:t>Chromium is a hard, lustrous, steel-gray me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inher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inherit"/>
              </a:rPr>
              <a:t>Stainless Steel is hard and resists corrosion due to the addition of chrom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91540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iodic Tabl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rom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ymbol  :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tomic Number :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tomic Mass : 51.996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eriod Number : 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up Number : 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ture  Of  Element Chrom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hromium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9194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65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Picture Of Atom Of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46080" y="-22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1760" y="873000"/>
            <a:ext cx="15796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900080" bIns="-4294900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080" y="0"/>
            <a:ext cx="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080" y="2376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ages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0496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Propert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6934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lting Point: 2180 [or 1907 °C (3465 °F)] 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iling Point : 2944 [or 2671 °C (4840 °F)] 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quid Range : 764  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27672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973240"/>
            <a:ext cx="861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973240"/>
            <a:ext cx="861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973240"/>
            <a:ext cx="861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82096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280" y="148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Propert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romium is unstable in oxygen, it immediately produces a thin oxide layer that is impermeable to oxygen and protects the metal below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1911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does not tarnish in air, when heated it borns and forms the green chromic ox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Uses Of Chrom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etic tape (used in audio cassettes and high-class audio tapes) is made from a magnetic compound of chromium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4290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inless steel, used in many applications, is made when chromium is added to iron. Some people might use stainless steel knives in the kitchen!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Chrom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Chromiu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 was discovered by Louis-Nicholas Vauquelin at 1797 in France. Origin from the Greek word "</a:t>
            </a:r>
            <a:r>
              <a:rPr b="0" i="1" lang="en-US" sz="2800" spc="-1" strike="noStrike">
                <a:solidFill>
                  <a:srgbClr val="000000"/>
                </a:solidFill>
                <a:latin typeface="Helvetica Neue"/>
              </a:rPr>
              <a:t>chroma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" meaning "</a:t>
            </a:r>
            <a:r>
              <a:rPr b="0" i="1" lang="en-US" sz="2800" spc="-1" strike="noStrike">
                <a:solidFill>
                  <a:srgbClr val="000000"/>
                </a:solidFill>
                <a:latin typeface="Helvetica Neue"/>
              </a:rPr>
              <a:t>colour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", named for the many coloured compounds known for chromium</a:t>
            </a:r>
            <a:r>
              <a:rPr b="0" lang="en-US" sz="2800" spc="-1" strike="noStrike">
                <a:solidFill>
                  <a:srgbClr val="66ccff"/>
                </a:solidFill>
                <a:latin typeface="Helvetica Neue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hromium has four isotopes which consist of   50Cr , 52Cr , 53Cr , 54Cr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4:39:47Z</dcterms:created>
  <dc:creator>200804</dc:creator>
  <dc:description/>
  <dc:language>en-US</dc:language>
  <cp:lastModifiedBy>THE BRALLIERS</cp:lastModifiedBy>
  <dcterms:modified xsi:type="dcterms:W3CDTF">2013-02-01T01:12:48Z</dcterms:modified>
  <cp:revision>5</cp:revision>
  <dc:subject/>
  <dc:title>Chromium</dc:title>
</cp:coreProperties>
</file>