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58E-B616-4BCD-B8A3-307726F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5B1-BB23-43C7-85D7-8928519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6B0-F5FA-4A38-BBB4-A68E8955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542-052C-41FF-824E-32EF381F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D5E-75EC-475C-8F5F-BA73A42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53D-3930-4603-B172-13A138C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94D-887B-4F8C-8C99-B46376A9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F2E-8BD1-4C8B-80DA-D12D045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1C1-7343-45CC-95D6-96AC2E1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BB8-60AA-424F-B7FF-D4E58E7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E4E-6BDD-4147-B397-F5F554E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445-1B71-4C01-B6B4-9552848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CEE-D262-4969-9BEC-3D7A41B6A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rom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in  Clin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has atomic number 24. It is the first element in Group 6 on the Periodic 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is a hard, lustrous, steel-gray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Stainless Steel is hard and resists corrosion due to the addition of chrom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9154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iodic Ta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mbol  :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Number :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Mass : 51.996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riod Number :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Number :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ture  Of  Element Chr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romium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919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65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Picture Of Atom Of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" y="873000"/>
            <a:ext cx="1579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900080" bIns="-4294900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80" y="0"/>
            <a:ext cx="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lting Point: 2180 [or 1907 °C (3465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iling Point : 2944 [or 2671 °C (4840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quid Range : 764 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2096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romium is unstable in oxygen, it immediately produces a thin oxide layer that is impermeable to oxygen and protects the metal bel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911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does not tarnish in air, when heated it borns and forms the green chromic ox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es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etic tape (used in audio cassettes and high-class audio tapes) is made from a magnetic compound of chromiu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429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inless steel, used in many applications, is made when chromium is added to iron. Some people might use stainless steel knives in the kitchen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Chromiu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 was discovered by Louis-Nicholas Vauquelin at 1797 in France. Origin from the Greek word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hroma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 meaning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olour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, named for the many coloured compounds known for chromium</a:t>
            </a:r>
            <a:r>
              <a:rPr b="0" lang="en-US" sz="2800" spc="-1" strike="noStrike">
                <a:solidFill>
                  <a:srgbClr val="66ccff"/>
                </a:solidFill>
                <a:latin typeface="Helvetica Neu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romium has four isotopes which consist of   50Cr , 52Cr , 53Cr , 54C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39:47Z</dcterms:created>
  <dc:creator>200804</dc:creator>
  <dc:description/>
  <dc:language>en-US</dc:language>
  <cp:lastModifiedBy>THE BRALLIERS</cp:lastModifiedBy>
  <dcterms:modified xsi:type="dcterms:W3CDTF">2013-02-01T01:12:48Z</dcterms:modified>
  <cp:revision>5</cp:revision>
  <dc:subject/>
  <dc:title>Chromium</dc:title>
</cp:coreProperties>
</file>