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2548-9D92-4B58-8F03-0E63B7A8B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2006-61C1-49E7-9AD5-69D5E4369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1454-0E4D-4790-801E-9BBDBA5DF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B597-BCE7-4A2E-ACCF-FACEBC37C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5886-E41B-4DDD-8867-E2562FA5F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C6D8-9013-477E-A6EA-0DA8E9600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55D7-E608-4CCA-B92D-951E7E114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C1C2-578C-42D9-B56A-B0963649C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49D9-1F38-4C87-8EC2-F4A877598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6DB6-DD22-4D3E-9D3D-E73457FFB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2161-2E5B-46D0-953F-DC10E8392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533C-CB06-436A-9C48-46EB7CBCA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412AD-07D8-467D-9AC4-1A5FE4698A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Carb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By: Karlee Schleinkofer, Caitlyn Weic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Other interesting fact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9999"/>
                </a:solidFill>
                <a:latin typeface="Times New Roman"/>
              </a:rPr>
              <a:t>It is one of the oldest ele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9999"/>
                </a:solidFill>
                <a:latin typeface="Times New Roman"/>
              </a:rPr>
              <a:t>Carbon is everywhere, the air you breathe, the jewelery you wear, even the pencil you use to write down your grocery li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Information about Carb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3399"/>
                </a:solidFill>
                <a:latin typeface="Times New Roman"/>
              </a:rPr>
              <a:t>Name: Carb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3399"/>
                </a:solidFill>
                <a:latin typeface="Times New Roman"/>
              </a:rPr>
              <a:t>Atomic Symbol: 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3399"/>
                </a:solidFill>
                <a:latin typeface="Times New Roman"/>
              </a:rPr>
              <a:t>Atomic number: 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3399"/>
                </a:solidFill>
                <a:latin typeface="Times New Roman"/>
              </a:rPr>
              <a:t>Atomic Mass: 12.0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3399"/>
                </a:solidFill>
                <a:latin typeface="Times New Roman"/>
              </a:rPr>
              <a:t>Group #: 1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3399"/>
                </a:solidFill>
                <a:latin typeface="Times New Roman"/>
              </a:rPr>
              <a:t>Period #: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Pic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4" descr="http://www.green-planet-solar-energy.com/images/carbon-2.gif"/>
          <p:cNvPicPr/>
          <p:nvPr/>
        </p:nvPicPr>
        <p:blipFill>
          <a:blip r:embed="rId1"/>
          <a:stretch/>
        </p:blipFill>
        <p:spPr>
          <a:xfrm>
            <a:off x="3124080" y="2057400"/>
            <a:ext cx="285768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Times New Roman"/>
              </a:rPr>
              <a:t>Pic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http://www.chemicalelements.com/bohr/b0006.gif"/>
          <p:cNvPicPr/>
          <p:nvPr/>
        </p:nvPicPr>
        <p:blipFill>
          <a:blip r:embed="rId1"/>
          <a:stretch/>
        </p:blipFill>
        <p:spPr>
          <a:xfrm>
            <a:off x="2895480" y="1981080"/>
            <a:ext cx="3124440" cy="29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Times New Roman"/>
              </a:rPr>
              <a:t>Physical proper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ff"/>
                </a:solidFill>
                <a:latin typeface="Times New Roman"/>
              </a:rPr>
              <a:t>1: Melting po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ff"/>
                </a:solidFill>
                <a:latin typeface="Times New Roman"/>
              </a:rPr>
              <a:t>2: Boiling po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ff"/>
                </a:solidFill>
                <a:latin typeface="Times New Roman"/>
              </a:rPr>
              <a:t>3: Density of sol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imes New Roman"/>
              </a:rPr>
              <a:t>Chemical proper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Forms covalent bonds with many other ele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There are nearly ten million known carbon compounds and an entire branch of chemistry that is known as organic chemist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ff"/>
                </a:solidFill>
                <a:latin typeface="Times New Roman"/>
              </a:rPr>
              <a:t>U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Carbon can be used for lampblack, allotrope, gas, fuels, and lubricants, and lovely diamonds! (diamonds are a pure form of carbon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99"/>
                </a:solidFill>
                <a:latin typeface="Times New Roman"/>
              </a:rPr>
              <a:t>His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9933ff"/>
                </a:solidFill>
                <a:latin typeface="Times New Roman"/>
              </a:rPr>
              <a:t>Diamonds were known at least as early as 1200 B.C seems probable according to ancient Hindu writings. Carbon as a reduction agent in the making of iron and other metals is also of prehistoric orig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Allotropes, Isotopes, or Important Compo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c1c1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It is found as carbon dioxide in the atmosphere of the earth and dissolved in all natural waters. It can form hydrogen, oxygen, nitrogen and other ele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1c1c1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Carbon has seven isotop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0T16:36:12Z</dcterms:created>
  <dc:creator>200737</dc:creator>
  <dc:description/>
  <dc:language>en-US</dc:language>
  <cp:lastModifiedBy>200737</cp:lastModifiedBy>
  <dcterms:modified xsi:type="dcterms:W3CDTF">2013-04-10T15:54:52Z</dcterms:modified>
  <cp:revision>6</cp:revision>
  <dc:subject/>
  <dc:title>Carbon</dc:title>
</cp:coreProperties>
</file>