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B21-EEB1-4921-8763-5DBBB9CB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5C3-33EA-4613-8A82-94C328A5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E43-EC43-49EE-A064-F9AB7F79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4FB-BDD6-462A-85D0-EE59CE90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6E9-CDB1-4FAC-862B-BFAE0E9D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344-F998-4D50-BF2F-43DA66D5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A4E-A853-43F9-9597-A81E95D8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A85-E57F-4606-98A8-C85D57AA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8D9-447A-4625-A2B6-9A6A7C4D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CDA-0DE3-47AF-AFEB-F08AC002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52B-5F63-4ACA-BDF4-3020BA20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1FB-03B0-4341-B3DA-0A5F1D28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3DA8-EB00-4D5A-93FF-0AE02165D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arb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By: Karlee Schleinkofer, Caitlyn Wei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Other interesting fa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It is one of the oldest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99"/>
                </a:solidFill>
                <a:latin typeface="Times New Roman"/>
              </a:rPr>
              <a:t>Carbon is everywhere, the air you breathe, the jewelery you wear, even the pencil you use to write down your grocery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Information about Carb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Name: Carb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Symbol: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number: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Atomic Mass: 12.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Group #: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99"/>
                </a:solidFill>
                <a:latin typeface="Times New Roman"/>
              </a:rPr>
              <a:t>Period #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ttp://www.green-planet-solar-energy.com/images/carbon-2.gif"/>
          <p:cNvPicPr/>
          <p:nvPr/>
        </p:nvPicPr>
        <p:blipFill>
          <a:blip r:embed="rId1"/>
          <a:stretch/>
        </p:blipFill>
        <p:spPr>
          <a:xfrm>
            <a:off x="3124080" y="2057400"/>
            <a:ext cx="28576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chemicalelements.com/bohr/b0006.gif"/>
          <p:cNvPicPr/>
          <p:nvPr/>
        </p:nvPicPr>
        <p:blipFill>
          <a:blip r:embed="rId1"/>
          <a:stretch/>
        </p:blipFill>
        <p:spPr>
          <a:xfrm>
            <a:off x="2895480" y="1981080"/>
            <a:ext cx="31244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Times New Roman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1: Melt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2: Boiling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imes New Roman"/>
              </a:rPr>
              <a:t>3: Density of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Forms covalent bonds with many oth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There are nearly ten million known carbon compounds and an entire branch of chemistry that is known as organic chemi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arbon can be used for lampblack, allotrope, gas, fuels, and lubricants, and lovely diamonds! (diamonds are a pure form of carb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Diamonds were known at least as early as 1200 B.C seems probable according to ancient Hindu writings. Carbon as a reduction agent in the making of iron and other metals is also of prehistoric ori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lotropes, Isotopes, or Important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t is found as carbon dioxide in the atmosphere of the earth and dissolved in all natural waters. It can form hydrogen, oxygen, nitrogen and other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arbon has seven isoto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16:36:12Z</dcterms:created>
  <dc:creator>200737</dc:creator>
  <dc:description/>
  <dc:language>en-US</dc:language>
  <cp:lastModifiedBy>200737</cp:lastModifiedBy>
  <dcterms:modified xsi:type="dcterms:W3CDTF">2013-04-10T15:54:52Z</dcterms:modified>
  <cp:revision>6</cp:revision>
  <dc:subject/>
  <dc:title>Carbon</dc:title>
</cp:coreProperties>
</file>