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AB2-6564-45B6-ACDE-387F5B03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DC8-9DE3-4D20-8D03-5D288BB7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AE2-9E44-4A2F-A561-B3E78445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6FF-3296-4AFE-9E4F-A85C22C7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C58-7243-4E56-B74A-E55BA4D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32B-9E98-4615-A450-85BE90D0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D09-BD92-4BC3-B839-08EA6CE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27C-5B57-422B-A1B1-DA5C43EA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914-DFF8-46DC-B165-FA727B0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FA6-9346-4E6A-ADC3-BEFBF66E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8A7-50BF-4BE5-96AB-4044D02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03F-74E2-481C-8B29-C6894B28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9101-C6FB-4877-9C8C-DA49527A5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y: Karlee Schleinkofer, Caitlyn We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her interesting f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It is one of the oldest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Carbon is everywhere, the air you breathe, the jewelery you wear, even the pencil you use to write down your grocery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formation about 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Name: 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Symbol: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number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Mass: 12.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Group #: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Period #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://www.green-planet-solar-energy.com/images/carbon-2.gif"/>
          <p:cNvPicPr/>
          <p:nvPr/>
        </p:nvPicPr>
        <p:blipFill>
          <a:blip r:embed="rId1"/>
          <a:stretch/>
        </p:blipFill>
        <p:spPr>
          <a:xfrm>
            <a:off x="3124080" y="2057400"/>
            <a:ext cx="2857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chemicalelements.com/bohr/b0006.gif"/>
          <p:cNvPicPr/>
          <p:nvPr/>
        </p:nvPicPr>
        <p:blipFill>
          <a:blip r:embed="rId1"/>
          <a:stretch/>
        </p:blipFill>
        <p:spPr>
          <a:xfrm>
            <a:off x="2895480" y="1981080"/>
            <a:ext cx="31244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1: Melt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2: Boi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3: Density of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rms covalent bonds with many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re are nearly ten million known carbon compounds and an entire branch of chemistry that is known as organic chemi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arbon can be used for lampblack, allotrope, gas, fuels, and lubricants, and lovely diamonds! (diamonds are a pure form of carb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Diamonds were known at least as early as 1200 B.C seems probable according to ancient Hindu writings. Carbon as a reduction agent in the making of iron and other metals is also of prehistoric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lotropes, Isotopes, or Important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t is found as carbon dioxide in the atmosphere of the earth and dissolved in all natural waters. It can form hydrogen, oxygen, nitrogen and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rbon has seven isot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6:36:12Z</dcterms:created>
  <dc:creator>200737</dc:creator>
  <dc:description/>
  <dc:language>en-US</dc:language>
  <cp:lastModifiedBy>200737</cp:lastModifiedBy>
  <dcterms:modified xsi:type="dcterms:W3CDTF">2013-04-10T15:54:52Z</dcterms:modified>
  <cp:revision>6</cp:revision>
  <dc:subject/>
  <dc:title>Carbon</dc:title>
</cp:coreProperties>
</file>