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5B39-6004-4CE0-8F7C-81C05E71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EBF1-6DAE-486B-8142-CBB4D1F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C03-A75D-46FD-AEC1-282F4F24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F58-DF9F-423F-96BA-4C151264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69E-FC30-42AE-A7B0-4B4F100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41A-5A1E-4FBB-A6C8-056F10B8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4BE-342C-48C7-BFD8-55008F6E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E72A-8364-4691-9711-680AA934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984-CE24-4692-88E1-E9C80FBF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5BD-C9DA-4C22-BBC4-C091162A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4F1-3DD2-4EDF-9046-AA64DC72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43A-678A-4ED9-82B9-599B6D6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29FF-B6D2-45FC-90E2-93A5B12B5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y: Karlee Schleinkofer, Caitlyn We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her interesting f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It is one of the oldest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Carbon is everywhere, the air you breathe, the jewelery you wear, even the pencil you use to write down your grocery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formation about 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Name: 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Symbol: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number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Mass: 12.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Group #: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Period #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://www.green-planet-solar-energy.com/images/carbon-2.gif"/>
          <p:cNvPicPr/>
          <p:nvPr/>
        </p:nvPicPr>
        <p:blipFill>
          <a:blip r:embed="rId1"/>
          <a:stretch/>
        </p:blipFill>
        <p:spPr>
          <a:xfrm>
            <a:off x="3124080" y="2057400"/>
            <a:ext cx="2857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chemicalelements.com/bohr/b0006.gif"/>
          <p:cNvPicPr/>
          <p:nvPr/>
        </p:nvPicPr>
        <p:blipFill>
          <a:blip r:embed="rId1"/>
          <a:stretch/>
        </p:blipFill>
        <p:spPr>
          <a:xfrm>
            <a:off x="2895480" y="1981080"/>
            <a:ext cx="31244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1: Mel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2: 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3: Density of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rms covalent bonds with many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re are nearly ten million known carbon compounds and an entire branch of chemistry that is known as organic chemi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arbon can be used for lampblack, allotrope, gas, fuels, and lubricants, and lovely diamonds! (diamonds are a pure form of carb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Diamonds were known at least as early as 1200 B.C seems probable according to ancient Hindu writings. Carbon as a reduction agent in the making of iron and other metals is also of prehistoric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lotropes, Isotopes, or Important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t is found as carbon dioxide in the atmosphere of the earth and dissolved in all natural waters. It can form hydrogen, oxygen, nitrogen and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rbon has seven isot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6:36:12Z</dcterms:created>
  <dc:creator>200737</dc:creator>
  <dc:description/>
  <dc:language>en-US</dc:language>
  <cp:lastModifiedBy>200737</cp:lastModifiedBy>
  <dcterms:modified xsi:type="dcterms:W3CDTF">2013-04-10T15:54:52Z</dcterms:modified>
  <cp:revision>6</cp:revision>
  <dc:subject/>
  <dc:title>Carbon</dc:title>
</cp:coreProperties>
</file>