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631B7-C73A-4ECB-A9DF-8122CCE21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B2823-2D80-4D35-BF9E-0703FC3CE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D87E9-AF18-43BA-BC4D-0DA80080F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5E0F3-410A-40AF-8F44-887258521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F047CF-ECFB-40ED-AA2F-7C84695A1A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787CD-0379-45E3-BE20-B173F170A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CB1F7-661F-4D77-B80C-F7BBB3E1E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0CBB2-9202-432C-8431-32BEE223D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7A686-F72F-4882-9EE6-CE54894F2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2721F-C297-49E1-9D40-3C438CC35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A6D38-9D9D-4CAF-B2D4-6A73A3C5D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A6870-9D73-4CFE-A3BE-E77079373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B4A33-CB82-425F-ADFE-BB6AEDDA0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51AEC-1844-453F-A3F0-4BB3EDFB4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61B91-755F-4D47-8E1F-6388E5DA7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8FE59-6C24-484A-9DD2-8C8C7806C0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D1E0A5-9770-40E1-98B5-941740D22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533D3-8B7C-4B46-8C74-98E01AE50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9C843-BEC7-4123-A29A-CAE53713C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03E96-A70D-4B8E-A202-2DCC790FE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79D5C-ECE6-4DC8-B6E2-72B2D2C77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8D611-84B9-4B46-AA36-DA3CB3E7A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C6ABE-861A-40E1-A8B5-9D1BA69D3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CB67D-6FFF-4B9B-AC65-6C2598069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5ED8-919F-4736-A9D1-9D8FF6338A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3012-55F4-44BC-B409-F3CFFE26A149}"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895480" y="1720080"/>
            <a:ext cx="5486400" cy="109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Arsenic</a:t>
            </a:r>
            <a:endParaRPr b="0" lang="en-US" sz="66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ther interesting facts.</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the Victorian era, arsenic was mixed with vinegar and chalk and eaten by women to improve the complexion of their faces, making their skin paler to show they did not work in the fields.</a:t>
            </a:r>
            <a:endParaRPr b="0" lang="en-US" sz="2800" spc="-1" strike="noStrike">
              <a:solidFill>
                <a:srgbClr val="ffffff"/>
              </a:solidFill>
              <a:latin typeface="Tahoma"/>
            </a:endParaRPr>
          </a:p>
          <a:p>
            <a:pPr marL="343080" indent="-343080" algn="ctr">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Arial"/>
                <a:ea typeface="Arial"/>
              </a:rPr>
              <a:t>Lead Arsenate was used as an insecticide on Fruit crops Its use was stopped in the late 60s and was officially banned in the US in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senic</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Atomic symbo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3- Atomic number</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5- Atomic mas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228600" y="456840"/>
            <a:ext cx="8229600" cy="56386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88" name="s12s" descr=""/>
          <p:cNvPicPr/>
          <p:nvPr/>
        </p:nvPicPr>
        <p:blipFill>
          <a:blip r:embed="rId2"/>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228600" y="456840"/>
            <a:ext cx="8229600" cy="56386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90" name="1-s2.0-S092151070800487X-gr2" descr=""/>
          <p:cNvPicPr/>
          <p:nvPr/>
        </p:nvPicPr>
        <p:blipFill>
          <a:blip r:embed="rId2"/>
          <a:stretch/>
        </p:blipFill>
        <p:spPr>
          <a:xfrm>
            <a:off x="1160640" y="1839960"/>
            <a:ext cx="6822720" cy="317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hysical properties</a:t>
            </a:r>
            <a:endParaRPr b="0" lang="en-US" sz="4400" spc="-1" strike="noStrike">
              <a:solidFill>
                <a:srgbClr val="ccffff"/>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te color</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ssy fee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lic lus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hemical properties</a:t>
            </a:r>
            <a:endParaRPr b="0" lang="en-US" sz="4400" spc="-1" strike="noStrike">
              <a:solidFill>
                <a:srgbClr val="ccffff"/>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ellow, Black, and Grey Allotropic form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ttle crystalline soli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tarnishes rapidly in the a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Uses of arsenic.</a:t>
            </a:r>
            <a:endParaRPr b="0" lang="en-US" sz="4400" spc="-1" strike="noStrike">
              <a:solidFill>
                <a:srgbClr val="ccffff"/>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a42"/>
                </a:solidFill>
                <a:latin typeface="Georgia"/>
              </a:rPr>
              <a:t>Orpiment as its sulfides, as arsenides and sulfaresenides of heavy metals, as arsenates, and as its oxide.</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istory of arsenic.</a:t>
            </a:r>
            <a:endParaRPr b="0" lang="en-US" sz="4400" spc="-1" strike="noStrike">
              <a:solidFill>
                <a:srgbClr val="ccffff"/>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senic has been found in nature since Antiquit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the 11</a:t>
            </a:r>
            <a:r>
              <a:rPr b="0" lang="en-US" sz="3200" spc="-1" strike="noStrike" baseline="30000">
                <a:solidFill>
                  <a:srgbClr val="ffffff"/>
                </a:solidFill>
                <a:latin typeface="Tahoma"/>
              </a:rPr>
              <a:t>th</a:t>
            </a:r>
            <a:r>
              <a:rPr b="0" lang="en-US" sz="3200" spc="-1" strike="noStrike">
                <a:solidFill>
                  <a:srgbClr val="ffffff"/>
                </a:solidFill>
                <a:latin typeface="Tahoma"/>
              </a:rPr>
              <a:t> century three species of arsenic were found red, yellow, and wh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llotropes and Isotopes.</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30 different isotopes. Ranging from. As-63 As-9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say there are no known allotropes in arsenic up to this da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18:26:42Z</dcterms:created>
  <dc:creator>200851</dc:creator>
  <dc:description/>
  <dc:language>en-US</dc:language>
  <cp:lastModifiedBy>200851</cp:lastModifiedBy>
  <dcterms:modified xsi:type="dcterms:W3CDTF">2013-02-01T17:46:07Z</dcterms:modified>
  <cp:revision>4</cp:revision>
  <dc:subject/>
  <dc:title>Arsenic</dc:title>
</cp:coreProperties>
</file>