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9B46A-8CE8-4B19-A0CA-71D8AF901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EAA19-A406-44B8-AAF4-0D0E80BD6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546AF-7B8E-4D1E-ACDC-301236E96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22331-B3F3-490B-8419-1EE0E665D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FFABE-2A4C-47D0-85AA-21615E038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CCDA4-6BFA-440A-AA20-031278C06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1A579-A400-485D-83DA-53C3D8B8A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D987A-BBF2-4377-A41D-B83E5EC89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07393-35BD-49E6-83A2-929C06219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10829-C71F-46BF-96CA-A4F1BB295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7B153-D7D5-4A97-93D5-D5C910013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5A43-9153-4E21-BDB4-CEE537FFB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3C86E-1CEC-4BDD-BFE6-6AFD8692C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D57EC-0206-4AF3-904F-C30F52B5B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74B62-2047-42EA-A5DD-F5BD82EB3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BA2FD6-E297-4B45-BAF9-06C33BB8B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EBAFB-FE5A-47D4-AD8F-03EA77C81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A5DE2-71E0-4504-86DE-48824835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5D752-C3F0-46BA-BC39-1ACBC512D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CB000-6710-420F-801D-AE03FEE14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B2A51-B39D-4D54-AAF2-43E5EAD29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B151D-EE0D-470F-96F1-3E6A41EDB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81768-1AB7-4374-8BCB-AA5747A82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CBA5-23F7-4D9D-B6E5-044D288DC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D0FEF-0084-4247-9584-2DFD7B1258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675B0-1FEF-4970-A917-E3817870A751}"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895480" y="1720080"/>
            <a:ext cx="548640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Arsenic</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interesting fact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e Victorian era, arsenic was mixed with vinegar and chalk and eaten by women to improve the complexion of their faces, making their skin paler to show they did not work in the fields.</a:t>
            </a:r>
            <a:endParaRPr b="0" lang="en-US" sz="2800" spc="-1" strike="noStrike">
              <a:solidFill>
                <a:srgbClr val="ffffff"/>
              </a:solidFill>
              <a:latin typeface="Tahoma"/>
            </a:endParaRPr>
          </a:p>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Arial"/>
                <a:ea typeface="Arial"/>
              </a:rPr>
              <a:t>Lead Arsenate was used as an insecticide on Fruit crops Its use was stopped in the late 60s and was officially banned in the US in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tomic symbo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3- Atomic numbe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5- Atomic ma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s12s" descr=""/>
          <p:cNvPicPr/>
          <p:nvPr/>
        </p:nvPicPr>
        <p:blipFill>
          <a:blip r:embed="rId2"/>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0" name="1-s2.0-S092151070800487X-gr2" descr=""/>
          <p:cNvPicPr/>
          <p:nvPr/>
        </p:nvPicPr>
        <p:blipFill>
          <a:blip r:embed="rId2"/>
          <a:stretch/>
        </p:blipFill>
        <p:spPr>
          <a:xfrm>
            <a:off x="1160640" y="1839960"/>
            <a:ext cx="6822720" cy="31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ysical properties</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te colo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ssy fee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lic lu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hemical properties</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llow, Black, and Grey Allotropic form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ttle crystalline soli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tarnishes rapidly in the 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Uses of arsenic.</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a42"/>
                </a:solidFill>
                <a:latin typeface="Georgia"/>
              </a:rPr>
              <a:t>Orpiment as its sulfides, as arsenides and sulfaresenides of heavy metals, as arsenates, and as its oxide.</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story of arsenic.</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 has been found in nature since Antiqu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11</a:t>
            </a:r>
            <a:r>
              <a:rPr b="0" lang="en-US" sz="3200" spc="-1" strike="noStrike" baseline="30000">
                <a:solidFill>
                  <a:srgbClr val="ffffff"/>
                </a:solidFill>
                <a:latin typeface="Tahoma"/>
              </a:rPr>
              <a:t>th</a:t>
            </a:r>
            <a:r>
              <a:rPr b="0" lang="en-US" sz="3200" spc="-1" strike="noStrike">
                <a:solidFill>
                  <a:srgbClr val="ffffff"/>
                </a:solidFill>
                <a:latin typeface="Tahoma"/>
              </a:rPr>
              <a:t> century three species of arsenic were found red, yellow, and wh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llotropes and Isotope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0 different isotopes. Ranging from. As-63 As-9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say there are no known allotropes in arsenic up to this 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6:42Z</dcterms:created>
  <dc:creator>200851</dc:creator>
  <dc:description/>
  <dc:language>en-US</dc:language>
  <cp:lastModifiedBy>200851</cp:lastModifiedBy>
  <dcterms:modified xsi:type="dcterms:W3CDTF">2013-02-01T17:46:07Z</dcterms:modified>
  <cp:revision>4</cp:revision>
  <dc:subject/>
  <dc:title>Arsenic</dc:title>
</cp:coreProperties>
</file>