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52C-15AF-4CCE-B2EE-55BDE152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2CB-7AF4-4907-A67C-BDA1E93E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4DE-7B6F-45A6-A8C1-FAD30D64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459-4F61-4DE1-88E4-67572396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B674-3297-4262-9D28-13BEE6AA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4578-3D8C-4D1F-93D9-CCA266E8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3F6C-1825-47C6-BA9D-A6B3AC52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B6A3-693A-4CC4-8177-EB2DF54C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CE6C-1DCC-48E4-AF55-F5FECDD6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DFE5-27FC-497A-B471-E05EC272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E389-FC21-48F5-BCD1-FD2D4451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A3D-BE56-4DEA-BBA9-D74295A8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5CA1-F4C3-40B3-9F26-B6A39C8F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42C5-D49A-47BF-BF51-3C76AAAD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2045-B2AD-40F5-9442-F8427FAB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F5FF-F005-48E9-8A02-21D38182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19DE-0DC9-4055-BE0E-506CD23A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2408-40E7-436E-ABFC-480E0AFE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5AD0-FB31-45B5-B7FE-B40C337C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667-6AEB-43DE-A692-A4C78DCA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982-B1F8-490D-B09F-0B445C2D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CFC-E042-45A1-AD04-9D9E7845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6E8-0797-4DFC-A7D0-6B00B6FA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8D6-976C-4534-A0D6-FF5052BC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CEB6-7AE8-4969-97A1-228DDFED57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B758-2206-490D-B911-08AFCCD2F7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tiniu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 Condensed Extra Bold"/>
              </a:rPr>
              <a:t>By Lee Co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one of the ten rarest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be found in parts of the Earth’s cr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not naturally found in any living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150 times more radioactive than Rad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600200" y="609480"/>
            <a:ext cx="5181480" cy="1285920"/>
          </a:xfrm>
          <a:prstGeom prst="rect">
            <a:avLst/>
          </a:prstGeom>
        </p:spPr>
        <p:txBody>
          <a:bodyPr wrap="none" lIns="91800" rIns="91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nteresting fac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28600" y="40384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: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:8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Mass Unit:2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fication:Rar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: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: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905120" y="2438280"/>
            <a:ext cx="4190760" cy="79056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ctiniu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D imag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s9s" descr=""/>
          <p:cNvPicPr/>
          <p:nvPr/>
        </p:nvPicPr>
        <p:blipFill>
          <a:blip r:embed="rId2"/>
          <a:stretch/>
        </p:blipFill>
        <p:spPr>
          <a:xfrm>
            <a:off x="2538360" y="1395360"/>
            <a:ext cx="40687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Actinium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38862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hysical propertie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int:1922 degrees Fahrenh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acts with Halogens(F,Cl,Br,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600200" y="457200"/>
            <a:ext cx="5867280" cy="99360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rington"/>
              </a:rPr>
              <a:t>Chemical properties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valuable neutron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nium-235 is used in Bi-213 for in a reusable generator or radioimmuno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90920" y="914400"/>
            <a:ext cx="3581280" cy="977760"/>
          </a:xfrm>
          <a:prstGeom prst="rect">
            <a:avLst/>
          </a:prstGeom>
        </p:spPr>
        <p:txBody>
          <a:bodyPr wrap="none" lIns="91800" rIns="91800" anchor="t" anchorCtr="1">
            <a:prstTxWarp prst="textCascadeUp">
              <a:avLst>
                <a:gd name="adj" fmla="val 63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U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discovered in 1899 by a French chemist named André-Louis Debierne, who separated it by pitchblen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Actinium comes from the Greek wo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ktis, or aktinos meaning beam or r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14600" y="1295280"/>
            <a:ext cx="3809880" cy="457200"/>
          </a:xfrm>
          <a:prstGeom prst="rect">
            <a:avLst/>
          </a:prstGeom>
        </p:spPr>
        <p:txBody>
          <a:bodyPr wrap="none" fromWordArt="1" lIns="91800" rIns="91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imSun"/>
              </a:rPr>
              <a:t>History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imSun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nium has no stable isotopes and no allotro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066680"/>
            <a:ext cx="8839080" cy="5716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otropes,Isotopes, and Important Compound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9:42:36Z</dcterms:created>
  <dc:creator>200721</dc:creator>
  <dc:description/>
  <dc:language>en-US</dc:language>
  <cp:lastModifiedBy>200721</cp:lastModifiedBy>
  <dcterms:modified xsi:type="dcterms:W3CDTF">2013-01-31T13:54:49Z</dcterms:modified>
  <cp:revision>3</cp:revision>
  <dc:subject/>
  <dc:title>Actinium</dc:title>
</cp:coreProperties>
</file>