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280-600F-4590-84EB-01846015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997-0F89-417B-9CC3-78F7AE3C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FCA6-DA9E-4F89-9A65-4578E84D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3E9-C68A-456D-BAFD-D378B3F49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F3AF-3A5E-429F-B1FA-9A91D1D3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51DA-29EB-4EFF-A693-F3C0F547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07C6-2839-43DC-9519-45A08FEE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9F9F-5FDF-4AB7-BCD0-3055FAFB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C219-B87D-4DB6-A300-D3CBD107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E0E8-2A99-42B1-8923-F087A87A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A61C-47F3-4DF9-A9D0-75806513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4E5-869F-4E9A-BA82-9EEA3ACD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20EA-1C8A-4DAD-A0E1-CC62261D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2660-D41B-4003-B88C-9088C1E4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FE5B-38DE-498A-87A7-AD6422AF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5EAF-63BD-4FC9-94F0-C37D5498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6DC3-73FC-4D93-9C53-0C34A01E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8E4-848B-4898-9005-B9E75125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744-1B6F-4729-89D5-6346F6FF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849-EE30-4278-B2A8-3B0E85E7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8488-3FEB-4FD1-BB1E-52D82A58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E44-230C-4DB8-BA5E-25505D2F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818-84C9-45C4-8AC0-A04349C5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D51-B7BF-4150-9ED2-D0F89228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6C34-171F-4FE4-BCE2-4CE87A1BBC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0308-43FA-4DAE-9403-D0F83936F5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tini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 Extra Bold"/>
              </a:rPr>
              <a:t>By Lee Co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ne of the ten rarest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be found in parts of the Earth’s cr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t naturally found in any living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150 times more radioactive than Ra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600200" y="609480"/>
            <a:ext cx="5181480" cy="1285920"/>
          </a:xfrm>
          <a:prstGeom prst="rect">
            <a:avLst/>
          </a:prstGeom>
        </p:spPr>
        <p:txBody>
          <a:bodyPr wrap="none" lIns="91800" rIns="91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teresting fac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28600" y="40384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: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:8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 Unit:2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tion:Rar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: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: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05120" y="2438280"/>
            <a:ext cx="4190760" cy="79056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ctiniu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D imag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s9s" descr=""/>
          <p:cNvPicPr/>
          <p:nvPr/>
        </p:nvPicPr>
        <p:blipFill>
          <a:blip r:embed="rId2"/>
          <a:stretch/>
        </p:blipFill>
        <p:spPr>
          <a:xfrm>
            <a:off x="2538360" y="1395360"/>
            <a:ext cx="4068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Actinium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38862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hysical properti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int:1922 degrees Fahrenh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acts with Halogens(F,Cl,Br,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00200" y="457200"/>
            <a:ext cx="5867280" cy="99360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rington"/>
              </a:rPr>
              <a:t>Chemical properties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luable neutron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ium-235 is used in Bi-213 for in a reusable generator or radioimmuno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90920" y="914400"/>
            <a:ext cx="3581280" cy="977760"/>
          </a:xfrm>
          <a:prstGeom prst="rect">
            <a:avLst/>
          </a:prstGeom>
        </p:spPr>
        <p:txBody>
          <a:bodyPr wrap="none" lIns="91800" rIns="91800" anchor="t" anchorCtr="1">
            <a:prstTxWarp prst="textCascadeUp">
              <a:avLst>
                <a:gd name="adj" fmla="val 63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U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discovered in 1899 by a French chemist named André-Louis Debierne, who separated it by pitchble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Actinium comes from the Greek 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ktis, or aktinos meaning beam or r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4600" y="1295280"/>
            <a:ext cx="3809880" cy="457200"/>
          </a:xfrm>
          <a:prstGeom prst="rect">
            <a:avLst/>
          </a:prstGeom>
        </p:spPr>
        <p:txBody>
          <a:bodyPr wrap="none" fromWordArt="1" lIns="91800" rIns="91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imSun"/>
              </a:rPr>
              <a:t>Histor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imSun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ium has no stable isotopes and no allotr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066680"/>
            <a:ext cx="8839080" cy="5716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otropes,Isotopes, and Important Compound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9:42:36Z</dcterms:created>
  <dc:creator>200721</dc:creator>
  <dc:description/>
  <dc:language>en-US</dc:language>
  <cp:lastModifiedBy>200721</cp:lastModifiedBy>
  <dcterms:modified xsi:type="dcterms:W3CDTF">2013-01-31T13:54:49Z</dcterms:modified>
  <cp:revision>3</cp:revision>
  <dc:subject/>
  <dc:title>Actinium</dc:title>
</cp:coreProperties>
</file>