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533-DB64-4412-9833-4F5EB3CC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DCD-5E06-4582-8401-641D6E9A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3804-5355-43BF-AC3C-9E6930E2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F36-168B-459C-AB47-1AE73B04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7184-5F39-4273-B8EC-527892C1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0E70-0490-4BDE-86C3-A5556C40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0010-F7DE-45D7-99C4-2F1CF933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AB0D-1B91-4390-BF5F-67A43A3A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7A61-BF78-40A5-818A-5EC97FFC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27FB-7717-45E4-9366-C957B2B6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AEFA-AE93-4117-B2CE-61E9C137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429-B493-46D9-A287-0BE1E707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962B-251C-401D-9C0F-246CD914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DF28-2DAB-4F25-AE9F-01B681B3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B03B-9931-4432-8007-6B55D914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666D-F5C9-4BDA-AE29-331FA0FE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2EA9-A93B-4D17-BEC8-4714FCC48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FE63-F783-4D19-BA44-81622523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A1EB-320A-44AE-8B93-B3BC73BD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FBE-3493-44D4-B4A6-7C7B78CD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B44C-B9F5-4354-9136-4B6A20F4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CA20-00D5-4DD9-92D7-B0C03BB5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66D9-6B3A-45D4-988C-4811AF8D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749-A2E6-4148-AA53-DFA31A2C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14D3-B05F-4769-B9DD-37AD197043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5C35-9349-4A7D-9AD2-6CBCE40F96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tiniu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 Condensed Extra Bold"/>
              </a:rPr>
              <a:t>By Lee Co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one of the ten rarest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be found in parts of the Earth’s cr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not naturally found in any living 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150 times more radioactive than Rad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600200" y="609480"/>
            <a:ext cx="5181480" cy="1285920"/>
          </a:xfrm>
          <a:prstGeom prst="rect">
            <a:avLst/>
          </a:prstGeom>
        </p:spPr>
        <p:txBody>
          <a:bodyPr wrap="none" lIns="91800" rIns="91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nteresting fac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28600" y="40384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: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:8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Mass Unit:2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fication:Rar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: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: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905120" y="2438280"/>
            <a:ext cx="4190760" cy="79056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ctiniu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D imag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s9s" descr=""/>
          <p:cNvPicPr/>
          <p:nvPr/>
        </p:nvPicPr>
        <p:blipFill>
          <a:blip r:embed="rId2"/>
          <a:stretch/>
        </p:blipFill>
        <p:spPr>
          <a:xfrm>
            <a:off x="2538360" y="1395360"/>
            <a:ext cx="40687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Actinium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38862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hysical propertie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int:1922 degrees Fahrenh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acts with Halogens(F,Cl,Br,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600200" y="457200"/>
            <a:ext cx="5867280" cy="993600"/>
          </a:xfrm>
          <a:prstGeom prst="rect">
            <a:avLst/>
          </a:prstGeom>
        </p:spPr>
        <p:txBody>
          <a:bodyPr wrap="none" lIns="91800" rIns="91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rington"/>
              </a:rPr>
              <a:t>Chemical properties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valuable neutron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nium-235 is used in Bi-213 for in a reusable generator or radioimmuno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90920" y="914400"/>
            <a:ext cx="3581280" cy="977760"/>
          </a:xfrm>
          <a:prstGeom prst="rect">
            <a:avLst/>
          </a:prstGeom>
        </p:spPr>
        <p:txBody>
          <a:bodyPr wrap="none" lIns="91800" rIns="91800" anchor="t" anchorCtr="1">
            <a:prstTxWarp prst="textCascadeUp">
              <a:avLst>
                <a:gd name="adj" fmla="val 63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U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discovered in 1899 by a French chemist named André-Louis Debierne, who separated it by pitchblen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Actinium comes from the Greek wo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ktis, or aktinos meaning beam or r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14600" y="1295280"/>
            <a:ext cx="3809880" cy="457200"/>
          </a:xfrm>
          <a:prstGeom prst="rect">
            <a:avLst/>
          </a:prstGeom>
        </p:spPr>
        <p:txBody>
          <a:bodyPr wrap="none" fromWordArt="1" lIns="91800" rIns="91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imSun"/>
              </a:rPr>
              <a:t>History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imSun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nium has no stable isotopes and no allotro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066680"/>
            <a:ext cx="8839080" cy="57168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otropes,Isotopes, and Important Compound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9:42:36Z</dcterms:created>
  <dc:creator>200721</dc:creator>
  <dc:description/>
  <dc:language>en-US</dc:language>
  <cp:lastModifiedBy>200721</cp:lastModifiedBy>
  <dcterms:modified xsi:type="dcterms:W3CDTF">2013-01-31T13:54:49Z</dcterms:modified>
  <cp:revision>3</cp:revision>
  <dc:subject/>
  <dc:title>Actinium</dc:title>
</cp:coreProperties>
</file>