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3D1B-9164-4D92-B85F-4F16FF60B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7343-3915-4702-B1EE-67F59BCA8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FCE0-C8F5-45D3-BACB-43379F37F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D552-402C-48C5-BC61-2004BE9AB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728B5-453F-411F-A7C1-3A07FFA45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E24D7-F2E2-4800-8F8B-8A9113094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51B94-E368-41B3-B776-6F6D4C60E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EFB0C-339C-4DC2-AC56-0FFCFADFC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C513E-67ED-43C0-B4F1-D03840546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CB455-2ACF-4621-8C0B-DEE0F26D8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5327D-33B1-477C-A569-37D18421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75B5-E55C-4161-8442-9384F70BF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D8A7A-056D-4EC9-B02B-6FD57095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86434-3CF2-4EAA-AA11-9B52B084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9F089-7C2C-4EAC-99B4-8FEC86CB6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A87D3-2EFB-488E-943F-5B68A43B9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8ED47-C691-428F-B325-362252339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9F92-6FFD-44B6-AE0C-1C8454B16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FBFD-3C2D-44F2-8210-3BA2150C8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FB53-3D93-4413-BB46-F52D16399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0F7D-0D3F-49D2-9AD5-B69A1DD8C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0ECB-A1A6-467F-B2BE-36972803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474A-8CCC-4753-87D4-27300161C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1F2D-A7F9-4E12-818C-80DE50A88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44F2F-3322-471C-BDB7-980BA5E973B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01003-8774-4A40-9BF4-2E4A9E63FA4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Actinium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w Cen MT Condensed Extra Bold"/>
              </a:rPr>
              <a:t>By Lee Coga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one of the ten rarest 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can be found in parts of the Earth’s cru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not naturally found in any living t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150 times more radioactive than Rad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600200" y="609480"/>
            <a:ext cx="5181480" cy="1285920"/>
          </a:xfrm>
          <a:prstGeom prst="rect">
            <a:avLst/>
          </a:prstGeom>
        </p:spPr>
        <p:txBody>
          <a:bodyPr wrap="none" lIns="91800" rIns="91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Interesting fact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228600" y="4038480"/>
            <a:ext cx="8763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mbol:A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ic Number:8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ic Mass Unit:22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ification:Rare Ear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up: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iod: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905120" y="2438280"/>
            <a:ext cx="4190760" cy="790560"/>
          </a:xfrm>
          <a:prstGeom prst="rect">
            <a:avLst/>
          </a:prstGeom>
        </p:spPr>
        <p:txBody>
          <a:bodyPr wrap="none" lIns="91800" rIns="91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Actinium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D imag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s9s" descr=""/>
          <p:cNvPicPr/>
          <p:nvPr/>
        </p:nvPicPr>
        <p:blipFill>
          <a:blip r:embed="rId2"/>
          <a:stretch/>
        </p:blipFill>
        <p:spPr>
          <a:xfrm>
            <a:off x="2538360" y="1395360"/>
            <a:ext cx="4068720" cy="40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Actinium" descr=""/>
          <p:cNvPicPr/>
          <p:nvPr/>
        </p:nvPicPr>
        <p:blipFill>
          <a:blip r:embed="rId1"/>
          <a:stretch/>
        </p:blipFill>
        <p:spPr>
          <a:xfrm>
            <a:off x="2438280" y="914400"/>
            <a:ext cx="3886200" cy="43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Physical properties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lting point:1922 degrees Fahrenhe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lv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532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reacts with Halogens(F,Cl,Br,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600200" y="457200"/>
            <a:ext cx="5867280" cy="993600"/>
          </a:xfrm>
          <a:prstGeom prst="rect">
            <a:avLst/>
          </a:prstGeom>
        </p:spPr>
        <p:txBody>
          <a:bodyPr wrap="none" lIns="91800" rIns="91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Harrington"/>
              </a:rPr>
              <a:t>Chemical properties 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Harrington"/>
              <a:ea typeface="Harringt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a valuable neutron sou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nium-235 is used in Bi-213 for in a reusable generator or radioimmunotherap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590920" y="914400"/>
            <a:ext cx="3581280" cy="977760"/>
          </a:xfrm>
          <a:prstGeom prst="rect">
            <a:avLst/>
          </a:prstGeom>
        </p:spPr>
        <p:txBody>
          <a:bodyPr wrap="none" lIns="91800" rIns="91800" anchor="t" anchorCtr="1">
            <a:prstTxWarp prst="textCascadeUp">
              <a:avLst>
                <a:gd name="adj" fmla="val 633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Us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was discovered in 1899 by a French chemist named André-Louis Debierne, who separated it by pitchblen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Actinium comes from the Greek wor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ktis, or aktinos meaning beam or r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514600" y="1295280"/>
            <a:ext cx="3809880" cy="457200"/>
          </a:xfrm>
          <a:prstGeom prst="rect">
            <a:avLst/>
          </a:prstGeom>
        </p:spPr>
        <p:txBody>
          <a:bodyPr wrap="none" fromWordArt="1" lIns="91800" rIns="91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SimSun"/>
              </a:rPr>
              <a:t>History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SimSun"/>
              <a:ea typeface="SimSu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nium has no stable isotopes and no allotro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066680"/>
            <a:ext cx="8839080" cy="571680"/>
          </a:xfrm>
          <a:prstGeom prst="rect">
            <a:avLst/>
          </a:prstGeom>
        </p:spPr>
        <p:txBody>
          <a:bodyPr wrap="none" lIns="91800" rIns="91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llotropes,Isotopes, and Important Compound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9T19:42:36Z</dcterms:created>
  <dc:creator>200721</dc:creator>
  <dc:description/>
  <dc:language>en-US</dc:language>
  <cp:lastModifiedBy>200721</cp:lastModifiedBy>
  <dcterms:modified xsi:type="dcterms:W3CDTF">2013-01-31T13:54:49Z</dcterms:modified>
  <cp:revision>3</cp:revision>
  <dc:subject/>
  <dc:title>Actinium</dc:title>
</cp:coreProperties>
</file>