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969-D9D9-4D2C-BB97-F8A0FE9A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DD9-6939-4789-A196-E3CF57D7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2D5-BF09-4872-ABCE-8E4C943B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8FF-79E0-4C2A-83A2-44983FC6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8915-6EF5-4773-B3B4-FBF7C74B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44AE-4136-4CC1-BBE3-E9777BA3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6536-D886-484A-8510-4A648A1F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226B-8874-48D5-909B-7F477EEC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C37F-BB62-49A6-828B-7A9A51E1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96B0-3D46-4E5B-958D-7C927797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11FB-07CF-4D49-82E5-C28CCEA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E9C-4F56-4D24-9709-490042FA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4106-BF5E-44AE-B9D8-A5B2796E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1CB8-72D6-4C70-865D-129AB312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8190-F401-46C9-9D19-8C183280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9F36-3387-4731-AFE5-FDFE6584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ED01-C3CE-459D-8D2E-0E2A0F5C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C43-1DE0-48B5-A007-A878C3D5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37B-8267-4284-8F66-0AD42140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442-E3EB-4A74-B468-928D1651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D05-F0C5-42F7-8F19-8B449F76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1E8-33AC-4AE7-BAD7-797789BF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FB3-6F1D-4311-85D7-16B70BEF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C85-CF20-4B56-A517-F6B05486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ED9B-F4FA-4EFB-BBFA-E1972847BE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AB9C-26C5-41C5-B863-D2B42BCD0C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tiniu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 Extra Bold"/>
              </a:rPr>
              <a:t>By Lee Co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ne of the ten rarest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be found in parts of the Earth’s cr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not naturally found in any living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150 times more radioactive than Rad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600200" y="609480"/>
            <a:ext cx="5181480" cy="1285920"/>
          </a:xfrm>
          <a:prstGeom prst="rect">
            <a:avLst/>
          </a:prstGeom>
        </p:spPr>
        <p:txBody>
          <a:bodyPr wrap="none" lIns="91800" rIns="91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teresting fac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28600" y="40384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: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:8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 Unit:2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ication:Rar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: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: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905120" y="2438280"/>
            <a:ext cx="4190760" cy="79056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ctiniu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D imag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s9s" descr=""/>
          <p:cNvPicPr/>
          <p:nvPr/>
        </p:nvPicPr>
        <p:blipFill>
          <a:blip r:embed="rId2"/>
          <a:stretch/>
        </p:blipFill>
        <p:spPr>
          <a:xfrm>
            <a:off x="2538360" y="1395360"/>
            <a:ext cx="4068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Actinium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38862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hysical properti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int:1922 degrees Fahrenh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acts with Halogens(F,Cl,Br,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600200" y="457200"/>
            <a:ext cx="5867280" cy="99360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rington"/>
              </a:rPr>
              <a:t>Chemical properties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luable neutron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ium-235 is used in Bi-213 for in a reusable generator or radioimmuno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90920" y="914400"/>
            <a:ext cx="3581280" cy="977760"/>
          </a:xfrm>
          <a:prstGeom prst="rect">
            <a:avLst/>
          </a:prstGeom>
        </p:spPr>
        <p:txBody>
          <a:bodyPr wrap="none" lIns="91800" rIns="91800" anchor="t" anchorCtr="1">
            <a:prstTxWarp prst="textCascadeUp">
              <a:avLst>
                <a:gd name="adj" fmla="val 63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U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discovered in 1899 by a French chemist named André-Louis Debierne, who separated it by pitchble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Actinium comes from the Greek 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ktis, or aktinos meaning beam or r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4600" y="1295280"/>
            <a:ext cx="3809880" cy="457200"/>
          </a:xfrm>
          <a:prstGeom prst="rect">
            <a:avLst/>
          </a:prstGeom>
        </p:spPr>
        <p:txBody>
          <a:bodyPr wrap="none" fromWordArt="1" lIns="91800" rIns="91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imSun"/>
              </a:rPr>
              <a:t>History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imSun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ium has no stable isotopes and no allotr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066680"/>
            <a:ext cx="8839080" cy="5716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otropes,Isotopes, and Important Compound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9:42:36Z</dcterms:created>
  <dc:creator>200721</dc:creator>
  <dc:description/>
  <dc:language>en-US</dc:language>
  <cp:lastModifiedBy>200721</cp:lastModifiedBy>
  <dcterms:modified xsi:type="dcterms:W3CDTF">2013-01-31T13:54:49Z</dcterms:modified>
  <cp:revision>3</cp:revision>
  <dc:subject/>
  <dc:title>Actinium</dc:title>
</cp:coreProperties>
</file>