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2AE9-3813-440F-B372-3A80253EB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AF1E-268A-40A8-8986-54C7605F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2E6C-B92B-4840-8F52-97108AEF0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5682-2F52-4089-918C-FB66FA4B2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3FEB-B92C-40DD-8A93-78ACE7FB7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D380-347A-4A25-B719-F43A64ED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C932-2CD9-4BA2-8934-80C90122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D151-BA44-42D4-B612-47B565C8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2B3D-B555-4841-A6F6-1379CCC7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2E36-A552-4B8C-AB2F-7F785D3D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95AF-F5DD-4EC8-9699-5DEC2A8F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E73D-04A0-46A1-BDE5-0E3E9010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923CB-F748-470F-AB92-33C85AB0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BC8B-5323-4095-9BBE-1E5550BF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C3E9-721A-438E-AA12-8D513AF6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C18A-2FF5-47DD-9FE1-3ED2342AB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3BBD-9A54-44DC-BE7A-ECFAECC23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059B-C1AA-4CC4-83CE-F18D2D29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AE28-7646-4F3D-8D1A-B220BE25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F92C-B377-4805-800A-18400B12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8563-75AE-4D60-AD32-3FABAD77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33C8-3CB2-4961-81D6-F51BD4A0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5C83-7C7B-4796-A56B-6F99C676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FC16-333F-481A-919D-D0FA03DB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98CC-8C36-484E-941E-5D9283A7FD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65D2-54DF-4DDA-8CB7-9DFCFBB6EA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ctiniu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w Cen MT Condensed Extra Bold"/>
              </a:rPr>
              <a:t>By Lee Cog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one of the ten rarest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an be found in parts of the Earth’s cru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not naturally found in any living 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150 times more radioactive than Rad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600200" y="609480"/>
            <a:ext cx="5181480" cy="1285920"/>
          </a:xfrm>
          <a:prstGeom prst="rect">
            <a:avLst/>
          </a:prstGeom>
        </p:spPr>
        <p:txBody>
          <a:bodyPr wrap="none" lIns="91800" rIns="91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Interesting fact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228600" y="403848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bol: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Number:8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omic Mass Unit:22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ification:Rare Ea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: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od: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905120" y="2438280"/>
            <a:ext cx="4190760" cy="79056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ctinium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D imag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s9s" descr=""/>
          <p:cNvPicPr/>
          <p:nvPr/>
        </p:nvPicPr>
        <p:blipFill>
          <a:blip r:embed="rId2"/>
          <a:stretch/>
        </p:blipFill>
        <p:spPr>
          <a:xfrm>
            <a:off x="2538360" y="1395360"/>
            <a:ext cx="406872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Actinium" descr=""/>
          <p:cNvPicPr/>
          <p:nvPr/>
        </p:nvPicPr>
        <p:blipFill>
          <a:blip r:embed="rId1"/>
          <a:stretch/>
        </p:blipFill>
        <p:spPr>
          <a:xfrm>
            <a:off x="2438280" y="914400"/>
            <a:ext cx="388620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hysical properties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lting point:1922 degrees Fahrenh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l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2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reacts with Halogens(F,Cl,Br,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600200" y="457200"/>
            <a:ext cx="5867280" cy="993600"/>
          </a:xfrm>
          <a:prstGeom prst="rect">
            <a:avLst/>
          </a:prstGeom>
        </p:spPr>
        <p:txBody>
          <a:bodyPr wrap="none" lIns="91800" rIns="91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Harrington"/>
              </a:rPr>
              <a:t>Chemical properties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Harrington"/>
              <a:ea typeface="Harringt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 valuable neutron 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nium-235 is used in Bi-213 for in a reusable generator or radioimmunothera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90920" y="914400"/>
            <a:ext cx="3581280" cy="977760"/>
          </a:xfrm>
          <a:prstGeom prst="rect">
            <a:avLst/>
          </a:prstGeom>
        </p:spPr>
        <p:txBody>
          <a:bodyPr wrap="none" lIns="91800" rIns="91800" anchor="t" anchorCtr="1">
            <a:prstTxWarp prst="textCascadeUp">
              <a:avLst>
                <a:gd name="adj" fmla="val 63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Us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as discovered in 1899 by a French chemist named André-Louis Debierne, who separated it by pitchblen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Actinium comes from the Greek wor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ktis, or aktinos meaning beam or r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14600" y="1295280"/>
            <a:ext cx="3809880" cy="457200"/>
          </a:xfrm>
          <a:prstGeom prst="rect">
            <a:avLst/>
          </a:prstGeom>
        </p:spPr>
        <p:txBody>
          <a:bodyPr wrap="none" fromWordArt="1" lIns="91800" rIns="91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SimSun"/>
              </a:rPr>
              <a:t>History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SimSun"/>
              <a:ea typeface="SimSu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nium has no stable isotopes and no allotro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066680"/>
            <a:ext cx="8839080" cy="57168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llotropes,Isotopes, and Important Compound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9:42:36Z</dcterms:created>
  <dc:creator>200721</dc:creator>
  <dc:description/>
  <dc:language>en-US</dc:language>
  <cp:lastModifiedBy>200721</cp:lastModifiedBy>
  <dcterms:modified xsi:type="dcterms:W3CDTF">2013-01-31T13:54:49Z</dcterms:modified>
  <cp:revision>3</cp:revision>
  <dc:subject/>
  <dc:title>Actinium</dc:title>
</cp:coreProperties>
</file>